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2F2C-AE96-4A88-B709-5342859F8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7BB1-8603-419E-A40B-BAA115423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6AE32-39C2-42C8-BFEB-92514ECE1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F064-7222-4395-BCED-442CEFB0C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B41C-80CF-428F-AEF9-5903D5C992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AAD4-A37E-49F1-861A-28D856E62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5992-30CE-433E-9FB6-CF855F547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9C80-6EFC-4E19-A67E-2B57FB572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A20B-9E68-47F5-A91F-CDAAB1244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FAA3-A4B7-4AB1-9A33-DD5AC59D2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AF62-417B-4956-BBA1-2E718DF94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77FB-21B2-4188-9352-5F2A4FB14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24680" y="6324120"/>
            <a:ext cx="533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E0F2-10D1-4E08-A85D-98E927CB01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 of Water Across the Ro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is absorbed from the soil by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own th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only enters the root near the root tip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there are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root hai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ich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increase the surface are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potential is higher in the epidermal cells than in the central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across the cortex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own th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gradi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xylem vessel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can move via the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ympla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popla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ylem vessels with different types of lignin strengthening the cell wal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64832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5562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continuous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5105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nin fibres strengthen the cell w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5627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do not collapse when pressure inside 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5105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ell contents (d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133720"/>
            <a:ext cx="4392720" cy="1197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xylem vessels with different strengthening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skidmore.edu/academics/biology/plant_bi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chanisms for the Transport of Water up the Xyl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illa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hesion-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48320" y="5486400"/>
            <a:ext cx="4495680" cy="75708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486400"/>
            <a:ext cx="449568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685800"/>
            <a:ext cx="1447560" cy="30492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209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pillar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76520" y="3886200"/>
            <a:ext cx="5033880" cy="1295280"/>
            <a:chOff x="1676520" y="3886200"/>
            <a:chExt cx="5033880" cy="1295280"/>
          </a:xfrm>
        </p:grpSpPr>
        <p:sp>
          <p:nvSpPr>
            <p:cNvPr id="156" name=""/>
            <p:cNvSpPr/>
            <p:nvPr/>
          </p:nvSpPr>
          <p:spPr>
            <a:xfrm>
              <a:off x="1681200" y="5153040"/>
              <a:ext cx="50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76520" y="38862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0400" y="38862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81200" y="4514760"/>
              <a:ext cx="502884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92320" y="1828800"/>
            <a:ext cx="485640" cy="2895480"/>
            <a:chOff x="2092320" y="1828800"/>
            <a:chExt cx="485640" cy="2895480"/>
          </a:xfrm>
        </p:grpSpPr>
        <p:sp>
          <p:nvSpPr>
            <p:cNvPr id="161" name=""/>
            <p:cNvSpPr/>
            <p:nvPr/>
          </p:nvSpPr>
          <p:spPr>
            <a:xfrm>
              <a:off x="209232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7796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52680" y="1828800"/>
            <a:ext cx="246240" cy="2895480"/>
            <a:chOff x="3352680" y="1828800"/>
            <a:chExt cx="246240" cy="2895480"/>
          </a:xfrm>
        </p:grpSpPr>
        <p:sp>
          <p:nvSpPr>
            <p:cNvPr id="164" name=""/>
            <p:cNvSpPr/>
            <p:nvPr/>
          </p:nvSpPr>
          <p:spPr>
            <a:xfrm>
              <a:off x="335268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9892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702320" y="1828800"/>
            <a:ext cx="163440" cy="2895480"/>
            <a:chOff x="4702320" y="1828800"/>
            <a:chExt cx="163440" cy="2895480"/>
          </a:xfrm>
        </p:grpSpPr>
        <p:sp>
          <p:nvSpPr>
            <p:cNvPr id="167" name=""/>
            <p:cNvSpPr/>
            <p:nvPr/>
          </p:nvSpPr>
          <p:spPr>
            <a:xfrm>
              <a:off x="470232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576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083280" y="1828800"/>
            <a:ext cx="101520" cy="2895480"/>
            <a:chOff x="6083280" y="1828800"/>
            <a:chExt cx="101520" cy="2895480"/>
          </a:xfrm>
        </p:grpSpPr>
        <p:sp>
          <p:nvSpPr>
            <p:cNvPr id="170" name=""/>
            <p:cNvSpPr/>
            <p:nvPr/>
          </p:nvSpPr>
          <p:spPr>
            <a:xfrm>
              <a:off x="608328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84800" y="182880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09960" y="3990960"/>
            <a:ext cx="4572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65640" y="3657600"/>
            <a:ext cx="21564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3228840"/>
            <a:ext cx="123840" cy="1600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28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rises up narrow tubes due to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hesiv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ces between the water molecules and the wall of the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04812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lem vessels are very na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19810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rises higher in narrower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5627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Water will only rise 50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5627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The flow rate is slower than the rate observed in xy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Limi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2514600"/>
            <a:ext cx="76320" cy="2133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Pressur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2800440" y="4971960"/>
            <a:ext cx="1752480" cy="1600200"/>
          </a:xfrm>
          <a:custGeom>
            <a:avLst/>
            <a:gdLst>
              <a:gd name="textAreaLeft" fmla="*/ 385200 w 1752480"/>
              <a:gd name="textAreaRight" fmla="*/ 1367280 w 175248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2200" y="4095720"/>
            <a:ext cx="228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43480" y="2803680"/>
            <a:ext cx="979200" cy="1414440"/>
          </a:xfrm>
          <a:prstGeom prst="uturnArrow">
            <a:avLst/>
          </a:prstGeom>
          <a:solidFill>
            <a:srgbClr val="ccec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87720" y="3265560"/>
            <a:ext cx="579600" cy="552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094280" y="3245760"/>
            <a:ext cx="1003320" cy="1477800"/>
          </a:xfrm>
          <a:prstGeom prst="uturnArrow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60840" y="3668760"/>
            <a:ext cx="716040" cy="506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67400" y="2697120"/>
            <a:ext cx="287280" cy="147816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67400" y="1344600"/>
            <a:ext cx="285480" cy="14130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80880"/>
            <a:ext cx="0" cy="28958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72080" y="380880"/>
            <a:ext cx="0" cy="28958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52320" y="5283360"/>
            <a:ext cx="609840" cy="969480"/>
            <a:chOff x="3352320" y="5283360"/>
            <a:chExt cx="609840" cy="969480"/>
          </a:xfrm>
        </p:grpSpPr>
        <p:sp>
          <p:nvSpPr>
            <p:cNvPr id="194" name=""/>
            <p:cNvSpPr/>
            <p:nvPr/>
          </p:nvSpPr>
          <p:spPr>
            <a:xfrm>
              <a:off x="3714120" y="5301720"/>
              <a:ext cx="248040" cy="684720"/>
            </a:xfrm>
            <a:custGeom>
              <a:avLst/>
              <a:gdLst/>
              <a:ahLst/>
              <a:rect l="l" t="t" r="r" b="b"/>
              <a:pathLst>
                <a:path w="254" h="447">
                  <a:moveTo>
                    <a:pt x="0" y="0"/>
                  </a:moveTo>
                  <a:cubicBezTo>
                    <a:pt x="129" y="33"/>
                    <a:pt x="99" y="44"/>
                    <a:pt x="224" y="106"/>
                  </a:cubicBezTo>
                  <a:cubicBezTo>
                    <a:pt x="254" y="200"/>
                    <a:pt x="212" y="343"/>
                    <a:pt x="212" y="44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80760" y="5319720"/>
              <a:ext cx="207000" cy="757080"/>
            </a:xfrm>
            <a:custGeom>
              <a:avLst/>
              <a:gdLst/>
              <a:ahLst/>
              <a:rect l="l" t="t" r="r" b="b"/>
              <a:pathLst>
                <a:path w="212" h="494">
                  <a:moveTo>
                    <a:pt x="212" y="0"/>
                  </a:moveTo>
                  <a:cubicBezTo>
                    <a:pt x="169" y="43"/>
                    <a:pt x="128" y="91"/>
                    <a:pt x="94" y="141"/>
                  </a:cubicBezTo>
                  <a:cubicBezTo>
                    <a:pt x="79" y="188"/>
                    <a:pt x="59" y="212"/>
                    <a:pt x="24" y="247"/>
                  </a:cubicBezTo>
                  <a:cubicBezTo>
                    <a:pt x="3" y="328"/>
                    <a:pt x="0" y="410"/>
                    <a:pt x="0" y="49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1000" y="5316840"/>
              <a:ext cx="183600" cy="936000"/>
            </a:xfrm>
            <a:custGeom>
              <a:avLst/>
              <a:gdLst/>
              <a:ahLst/>
              <a:rect l="l" t="t" r="r" b="b"/>
              <a:pathLst>
                <a:path w="188" h="611">
                  <a:moveTo>
                    <a:pt x="0" y="0"/>
                  </a:moveTo>
                  <a:cubicBezTo>
                    <a:pt x="19" y="110"/>
                    <a:pt x="32" y="128"/>
                    <a:pt x="94" y="223"/>
                  </a:cubicBezTo>
                  <a:cubicBezTo>
                    <a:pt x="117" y="258"/>
                    <a:pt x="122" y="303"/>
                    <a:pt x="141" y="341"/>
                  </a:cubicBezTo>
                  <a:cubicBezTo>
                    <a:pt x="161" y="439"/>
                    <a:pt x="188" y="509"/>
                    <a:pt x="188" y="6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52320" y="5316840"/>
              <a:ext cx="2343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00000" y="5283360"/>
              <a:ext cx="66240" cy="864000"/>
            </a:xfrm>
            <a:custGeom>
              <a:avLst/>
              <a:gdLst/>
              <a:ahLst/>
              <a:rect l="l" t="t" r="r" b="b"/>
              <a:pathLst>
                <a:path w="68" h="564">
                  <a:moveTo>
                    <a:pt x="35" y="0"/>
                  </a:moveTo>
                  <a:cubicBezTo>
                    <a:pt x="68" y="95"/>
                    <a:pt x="15" y="208"/>
                    <a:pt x="0" y="305"/>
                  </a:cubicBezTo>
                  <a:cubicBezTo>
                    <a:pt x="4" y="344"/>
                    <a:pt x="5" y="384"/>
                    <a:pt x="11" y="423"/>
                  </a:cubicBezTo>
                  <a:cubicBezTo>
                    <a:pt x="28" y="539"/>
                    <a:pt x="14" y="361"/>
                    <a:pt x="59" y="493"/>
                  </a:cubicBezTo>
                  <a:cubicBezTo>
                    <a:pt x="67" y="515"/>
                    <a:pt x="59" y="540"/>
                    <a:pt x="59" y="56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257800" y="9144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pressure causes the mercury to rise in the man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523520" y="3505320"/>
            <a:ext cx="205740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743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t stump of a well watered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7172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438280"/>
            <a:ext cx="304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764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cury Man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800600" y="411444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24160" y="5803920"/>
            <a:ext cx="154080" cy="203040"/>
          </a:xfrm>
          <a:custGeom>
            <a:avLst/>
            <a:gdLst/>
            <a:ahLst/>
            <a:rect l="l" t="t" r="r" b="b"/>
            <a:pathLst>
              <a:path w="97" h="128">
                <a:moveTo>
                  <a:pt x="97" y="0"/>
                </a:moveTo>
                <a:cubicBezTo>
                  <a:pt x="68" y="44"/>
                  <a:pt x="65" y="56"/>
                  <a:pt x="17" y="72"/>
                </a:cubicBezTo>
                <a:cubicBezTo>
                  <a:pt x="0" y="123"/>
                  <a:pt x="1" y="103"/>
                  <a:pt x="1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5626080"/>
            <a:ext cx="17640" cy="88920"/>
          </a:xfrm>
          <a:custGeom>
            <a:avLst/>
            <a:gdLst/>
            <a:ahLst/>
            <a:rect l="l" t="t" r="r" b="b"/>
            <a:pathLst>
              <a:path w="11" h="56">
                <a:moveTo>
                  <a:pt x="11" y="0"/>
                </a:moveTo>
                <a:cubicBezTo>
                  <a:pt x="0" y="34"/>
                  <a:pt x="3" y="16"/>
                  <a:pt x="3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36960" y="5715000"/>
            <a:ext cx="81000" cy="422280"/>
          </a:xfrm>
          <a:custGeom>
            <a:avLst/>
            <a:gdLst/>
            <a:ahLst/>
            <a:rect l="l" t="t" r="r" b="b"/>
            <a:pathLst>
              <a:path w="51" h="266">
                <a:moveTo>
                  <a:pt x="0" y="0"/>
                </a:moveTo>
                <a:cubicBezTo>
                  <a:pt x="3" y="19"/>
                  <a:pt x="4" y="38"/>
                  <a:pt x="8" y="56"/>
                </a:cubicBezTo>
                <a:cubicBezTo>
                  <a:pt x="12" y="72"/>
                  <a:pt x="24" y="104"/>
                  <a:pt x="24" y="104"/>
                </a:cubicBezTo>
                <a:cubicBezTo>
                  <a:pt x="27" y="131"/>
                  <a:pt x="26" y="158"/>
                  <a:pt x="32" y="184"/>
                </a:cubicBezTo>
                <a:cubicBezTo>
                  <a:pt x="51" y="266"/>
                  <a:pt x="48" y="169"/>
                  <a:pt x="48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9760" y="5931000"/>
            <a:ext cx="127080" cy="249120"/>
          </a:xfrm>
          <a:custGeom>
            <a:avLst/>
            <a:gdLst/>
            <a:ahLst/>
            <a:rect l="l" t="t" r="r" b="b"/>
            <a:pathLst>
              <a:path w="80" h="157">
                <a:moveTo>
                  <a:pt x="80" y="0"/>
                </a:moveTo>
                <a:cubicBezTo>
                  <a:pt x="49" y="10"/>
                  <a:pt x="35" y="16"/>
                  <a:pt x="24" y="48"/>
                </a:cubicBezTo>
                <a:cubicBezTo>
                  <a:pt x="16" y="157"/>
                  <a:pt x="51" y="152"/>
                  <a:pt x="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19440" y="5689440"/>
            <a:ext cx="114480" cy="343080"/>
          </a:xfrm>
          <a:custGeom>
            <a:avLst/>
            <a:gdLst/>
            <a:ahLst/>
            <a:rect l="l" t="t" r="r" b="b"/>
            <a:pathLst>
              <a:path w="72" h="216">
                <a:moveTo>
                  <a:pt x="0" y="0"/>
                </a:moveTo>
                <a:cubicBezTo>
                  <a:pt x="13" y="38"/>
                  <a:pt x="23" y="69"/>
                  <a:pt x="40" y="104"/>
                </a:cubicBezTo>
                <a:cubicBezTo>
                  <a:pt x="43" y="139"/>
                  <a:pt x="38" y="175"/>
                  <a:pt x="48" y="208"/>
                </a:cubicBezTo>
                <a:cubicBezTo>
                  <a:pt x="50" y="216"/>
                  <a:pt x="72" y="216"/>
                  <a:pt x="72" y="21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60640" y="6019920"/>
            <a:ext cx="196920" cy="380880"/>
          </a:xfrm>
          <a:custGeom>
            <a:avLst/>
            <a:gdLst/>
            <a:ahLst/>
            <a:rect l="l" t="t" r="r" b="b"/>
            <a:pathLst>
              <a:path w="124" h="240">
                <a:moveTo>
                  <a:pt x="0" y="0"/>
                </a:moveTo>
                <a:cubicBezTo>
                  <a:pt x="15" y="15"/>
                  <a:pt x="35" y="24"/>
                  <a:pt x="48" y="40"/>
                </a:cubicBezTo>
                <a:cubicBezTo>
                  <a:pt x="59" y="54"/>
                  <a:pt x="62" y="73"/>
                  <a:pt x="72" y="88"/>
                </a:cubicBezTo>
                <a:cubicBezTo>
                  <a:pt x="84" y="147"/>
                  <a:pt x="72" y="117"/>
                  <a:pt x="112" y="176"/>
                </a:cubicBezTo>
                <a:cubicBezTo>
                  <a:pt x="124" y="194"/>
                  <a:pt x="112" y="219"/>
                  <a:pt x="112" y="2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6146640"/>
            <a:ext cx="79200" cy="304920"/>
          </a:xfrm>
          <a:custGeom>
            <a:avLst/>
            <a:gdLst/>
            <a:ahLst/>
            <a:rect l="l" t="t" r="r" b="b"/>
            <a:pathLst>
              <a:path w="50" h="192">
                <a:moveTo>
                  <a:pt x="32" y="0"/>
                </a:moveTo>
                <a:cubicBezTo>
                  <a:pt x="11" y="64"/>
                  <a:pt x="50" y="142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90840" y="6032520"/>
            <a:ext cx="74520" cy="203040"/>
          </a:xfrm>
          <a:custGeom>
            <a:avLst/>
            <a:gdLst/>
            <a:ahLst/>
            <a:rect l="l" t="t" r="r" b="b"/>
            <a:pathLst>
              <a:path w="47" h="128">
                <a:moveTo>
                  <a:pt x="0" y="0"/>
                </a:moveTo>
                <a:cubicBezTo>
                  <a:pt x="47" y="70"/>
                  <a:pt x="32" y="29"/>
                  <a:pt x="32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82840" y="5994360"/>
            <a:ext cx="82800" cy="376200"/>
          </a:xfrm>
          <a:custGeom>
            <a:avLst/>
            <a:gdLst/>
            <a:ahLst/>
            <a:rect l="l" t="t" r="r" b="b"/>
            <a:pathLst>
              <a:path w="52" h="237">
                <a:moveTo>
                  <a:pt x="52" y="0"/>
                </a:moveTo>
                <a:cubicBezTo>
                  <a:pt x="49" y="29"/>
                  <a:pt x="52" y="60"/>
                  <a:pt x="44" y="88"/>
                </a:cubicBezTo>
                <a:cubicBezTo>
                  <a:pt x="0" y="237"/>
                  <a:pt x="12" y="24"/>
                  <a:pt x="12" y="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8680" y="5118120"/>
            <a:ext cx="187200" cy="355680"/>
          </a:xfrm>
          <a:custGeom>
            <a:avLst/>
            <a:gdLst/>
            <a:ahLst/>
            <a:rect l="l" t="t" r="r" b="b"/>
            <a:pathLst>
              <a:path w="118" h="224">
                <a:moveTo>
                  <a:pt x="80" y="0"/>
                </a:moveTo>
                <a:cubicBezTo>
                  <a:pt x="103" y="70"/>
                  <a:pt x="102" y="30"/>
                  <a:pt x="112" y="136"/>
                </a:cubicBezTo>
                <a:cubicBezTo>
                  <a:pt x="102" y="206"/>
                  <a:pt x="118" y="224"/>
                  <a:pt x="8" y="184"/>
                </a:cubicBezTo>
                <a:cubicBezTo>
                  <a:pt x="0" y="181"/>
                  <a:pt x="14" y="168"/>
                  <a:pt x="16" y="160"/>
                </a:cubicBezTo>
                <a:cubicBezTo>
                  <a:pt x="36" y="90"/>
                  <a:pt x="13" y="162"/>
                  <a:pt x="32" y="104"/>
                </a:cubicBezTo>
                <a:cubicBezTo>
                  <a:pt x="43" y="2"/>
                  <a:pt x="27" y="53"/>
                  <a:pt x="80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Root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is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ush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p the xylem by hydrostatic pres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eral salts are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pump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o the xylem vessels in the root by the endodermal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owering th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in from the surrounding cells by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aising the hydrostatic press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o pushing water up the xyl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952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hat would happen if the roots were deprived of O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4100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‘pumping’ of the ions would stop as it requires ATP produced in aerobic respiration.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quired for aerobic re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Root Pressure: Evid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t stumps of plants exude water from their cut end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certain conditions some leaves exude water from their leaves = gut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sures recorded by mercury manometers attached to the cut stumps could push water in the xylem up to 30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t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3716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droplets exude from the le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58920" y="278136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guttation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grapes.msu.edu/guttatio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tions of the Root Pressure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ressure measured is not enough to get water to the top of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nly find root pressure in sp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lies on the use of the plant’s energy (ATP) for active trans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hesion - Ten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i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ulled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 the xylem by the water lost in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ranspi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un provides the energy to ‘pull’ the water up by providing the energy for evapo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ter moves up the xylem by mass flow from the higher pressure in roots to the lower pressure in the leav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olumn of water does not break because of the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hesiv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force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ween the water molecu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ydrogen bon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etween individual water molecules is the force of att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023920" y="4114800"/>
            <a:ext cx="1309680" cy="1135800"/>
            <a:chOff x="2023920" y="4114800"/>
            <a:chExt cx="1309680" cy="1135800"/>
          </a:xfrm>
        </p:grpSpPr>
        <p:grpSp>
          <p:nvGrpSpPr>
            <p:cNvPr id="230" name=""/>
            <p:cNvGrpSpPr/>
            <p:nvPr/>
          </p:nvGrpSpPr>
          <p:grpSpPr>
            <a:xfrm>
              <a:off x="2261880" y="4386240"/>
              <a:ext cx="762120" cy="609480"/>
              <a:chOff x="2261880" y="4386240"/>
              <a:chExt cx="762120" cy="609480"/>
            </a:xfrm>
          </p:grpSpPr>
          <p:sp>
            <p:nvSpPr>
              <p:cNvPr id="231" name=""/>
              <p:cNvSpPr/>
              <p:nvPr/>
            </p:nvSpPr>
            <p:spPr>
              <a:xfrm>
                <a:off x="2806200" y="477396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61880" y="4386240"/>
                <a:ext cx="598680" cy="609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806200" y="438624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79540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76400" y="4790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23920" y="4309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414600" y="4148280"/>
            <a:ext cx="1309680" cy="1135800"/>
            <a:chOff x="3414600" y="4148280"/>
            <a:chExt cx="1309680" cy="1135800"/>
          </a:xfrm>
        </p:grpSpPr>
        <p:grpSp>
          <p:nvGrpSpPr>
            <p:cNvPr id="238" name=""/>
            <p:cNvGrpSpPr/>
            <p:nvPr/>
          </p:nvGrpSpPr>
          <p:grpSpPr>
            <a:xfrm>
              <a:off x="3652560" y="4419720"/>
              <a:ext cx="762120" cy="609480"/>
              <a:chOff x="3652560" y="4419720"/>
              <a:chExt cx="762120" cy="609480"/>
            </a:xfrm>
          </p:grpSpPr>
          <p:sp>
            <p:nvSpPr>
              <p:cNvPr id="239" name=""/>
              <p:cNvSpPr/>
              <p:nvPr/>
            </p:nvSpPr>
            <p:spPr>
              <a:xfrm>
                <a:off x="4196880" y="480744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52560" y="4419720"/>
                <a:ext cx="598680" cy="6094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196880" y="4419720"/>
                <a:ext cx="217800" cy="22140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186080" y="414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67080" y="4824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14600" y="4343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100320" y="4691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idence for the Cohesion Tension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ut stems attached to a tube containing water over mercury can pull the mercury up almost 1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ndrographs record that tree trunks have a narrower diameter during the day when transpiration rate is high i.e. when most tension is crea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uncturing the xylem of the stem of a transpiring shoot under water containing a dye causes the dye to move into the xylem both way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ye must be pulled in so the xylem is under tens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81240" y="22860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verse section of a ro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838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endoder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17524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Casparian strip in the walls of the endodermal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19920" y="34131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720" y="1066680"/>
            <a:ext cx="1676160" cy="129564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431960" y="2057400"/>
            <a:ext cx="1676520" cy="914400"/>
            <a:chOff x="4431960" y="2057400"/>
            <a:chExt cx="1676520" cy="914400"/>
          </a:xfrm>
        </p:grpSpPr>
        <p:sp>
          <p:nvSpPr>
            <p:cNvPr id="47" name=""/>
            <p:cNvSpPr/>
            <p:nvPr/>
          </p:nvSpPr>
          <p:spPr>
            <a:xfrm flipH="1">
              <a:off x="4495680" y="2095560"/>
              <a:ext cx="1524240" cy="6858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31960" y="2057400"/>
              <a:ext cx="1676520" cy="91440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429000" y="3047760"/>
            <a:ext cx="2666880" cy="533160"/>
            <a:chOff x="3429000" y="3047760"/>
            <a:chExt cx="2666880" cy="533160"/>
          </a:xfrm>
        </p:grpSpPr>
        <p:sp>
          <p:nvSpPr>
            <p:cNvPr id="50" name=""/>
            <p:cNvSpPr/>
            <p:nvPr/>
          </p:nvSpPr>
          <p:spPr>
            <a:xfrm flipH="1" flipV="1">
              <a:off x="3429000" y="3047760"/>
              <a:ext cx="2666880" cy="53316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3580920" y="3428640"/>
              <a:ext cx="2514600" cy="15228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80520" y="1676520"/>
            <a:ext cx="1905480" cy="3886200"/>
            <a:chOff x="380520" y="1676520"/>
            <a:chExt cx="1905480" cy="3886200"/>
          </a:xfrm>
        </p:grpSpPr>
        <p:sp>
          <p:nvSpPr>
            <p:cNvPr id="53" name=""/>
            <p:cNvSpPr/>
            <p:nvPr/>
          </p:nvSpPr>
          <p:spPr>
            <a:xfrm>
              <a:off x="1066680" y="1676520"/>
              <a:ext cx="1219320" cy="2514600"/>
            </a:xfrm>
            <a:custGeom>
              <a:avLst/>
              <a:gdLst>
                <a:gd name="textAreaLeft" fmla="*/ 779040 w 1219320"/>
                <a:gd name="textAreaRight" fmla="*/ 1219680 w 121932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80520" y="2895480"/>
              <a:ext cx="762120" cy="266724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s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724280"/>
            <a:ext cx="439236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a transverse section of a root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uri.edu/artsci/bio/plant_anatomy/3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riation in trunk diameter and transpiration rate over 24 ho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838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iameter of the trunk decreases as transpiration rate 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1736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Evaporation from the leav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raws water from the xylem by osmosis, water is 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pull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up the xylem creating a ten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31845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ension pulls the xylem vessel walls in, so the trunk diameter gets sm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43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runk has a larger diameter when there is less tra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1080" y="303120"/>
            <a:ext cx="4428720" cy="3935880"/>
            <a:chOff x="451080" y="303120"/>
            <a:chExt cx="4428720" cy="3935880"/>
          </a:xfrm>
        </p:grpSpPr>
        <p:sp>
          <p:nvSpPr>
            <p:cNvPr id="254" name=""/>
            <p:cNvSpPr/>
            <p:nvPr/>
          </p:nvSpPr>
          <p:spPr>
            <a:xfrm>
              <a:off x="4194000" y="3962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51080" y="303120"/>
              <a:ext cx="4354200" cy="3935880"/>
              <a:chOff x="451080" y="303120"/>
              <a:chExt cx="4354200" cy="3935880"/>
            </a:xfrm>
          </p:grpSpPr>
          <p:sp>
            <p:nvSpPr>
              <p:cNvPr id="256" name=""/>
              <p:cNvSpPr/>
              <p:nvPr/>
            </p:nvSpPr>
            <p:spPr>
              <a:xfrm>
                <a:off x="828720" y="914400"/>
                <a:ext cx="0" cy="30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2760" y="3962520"/>
                <a:ext cx="365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30160" y="1855800"/>
                <a:ext cx="3654360" cy="1917720"/>
              </a:xfrm>
              <a:custGeom>
                <a:avLst/>
                <a:gdLst/>
                <a:ahLst/>
                <a:rect l="l" t="t" r="r" b="b"/>
                <a:pathLst>
                  <a:path w="3024" h="1449">
                    <a:moveTo>
                      <a:pt x="0" y="1401"/>
                    </a:moveTo>
                    <a:cubicBezTo>
                      <a:pt x="188" y="1417"/>
                      <a:pt x="352" y="1432"/>
                      <a:pt x="480" y="1401"/>
                    </a:cubicBezTo>
                    <a:cubicBezTo>
                      <a:pt x="608" y="1370"/>
                      <a:pt x="608" y="1449"/>
                      <a:pt x="768" y="1217"/>
                    </a:cubicBezTo>
                    <a:cubicBezTo>
                      <a:pt x="928" y="985"/>
                      <a:pt x="1167" y="18"/>
                      <a:pt x="1440" y="9"/>
                    </a:cubicBezTo>
                    <a:cubicBezTo>
                      <a:pt x="1713" y="0"/>
                      <a:pt x="2144" y="929"/>
                      <a:pt x="2408" y="1161"/>
                    </a:cubicBezTo>
                    <a:cubicBezTo>
                      <a:pt x="2672" y="1393"/>
                      <a:pt x="2896" y="1351"/>
                      <a:pt x="3024" y="1401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5720" y="2666880"/>
                <a:ext cx="3635280" cy="744480"/>
              </a:xfrm>
              <a:custGeom>
                <a:avLst/>
                <a:gdLst/>
                <a:ahLst/>
                <a:rect l="l" t="t" r="r" b="b"/>
                <a:pathLst>
                  <a:path w="3008" h="562">
                    <a:moveTo>
                      <a:pt x="0" y="31"/>
                    </a:moveTo>
                    <a:cubicBezTo>
                      <a:pt x="112" y="34"/>
                      <a:pt x="496" y="11"/>
                      <a:pt x="672" y="55"/>
                    </a:cubicBezTo>
                    <a:cubicBezTo>
                      <a:pt x="848" y="99"/>
                      <a:pt x="916" y="212"/>
                      <a:pt x="1056" y="295"/>
                    </a:cubicBezTo>
                    <a:cubicBezTo>
                      <a:pt x="1196" y="378"/>
                      <a:pt x="1379" y="540"/>
                      <a:pt x="1512" y="551"/>
                    </a:cubicBezTo>
                    <a:cubicBezTo>
                      <a:pt x="1645" y="562"/>
                      <a:pt x="1724" y="442"/>
                      <a:pt x="1856" y="359"/>
                    </a:cubicBezTo>
                    <a:cubicBezTo>
                      <a:pt x="1988" y="276"/>
                      <a:pt x="2112" y="110"/>
                      <a:pt x="2304" y="55"/>
                    </a:cubicBezTo>
                    <a:cubicBezTo>
                      <a:pt x="2496" y="0"/>
                      <a:pt x="2861" y="36"/>
                      <a:pt x="3008" y="31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383800">
                <a:off x="3671280" y="1918800"/>
                <a:ext cx="198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cc"/>
                    </a:solidFill>
                    <a:latin typeface="Comic Sans MS"/>
                  </a:rPr>
                  <a:t>Transpiration 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233000">
                <a:off x="-360720" y="1125720"/>
                <a:ext cx="191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Comic Sans MS"/>
                  </a:rPr>
                  <a:t>Branch diame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9240" y="39625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2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6400" y="39625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4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498920" y="99036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/>
          <p:nvPr/>
        </p:nvSpPr>
        <p:spPr>
          <a:xfrm>
            <a:off x="4800600" y="52578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supports the cohesion tension hypothesis but not root pres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567600" y="2869920"/>
            <a:ext cx="1409400" cy="623880"/>
            <a:chOff x="3567600" y="2869920"/>
            <a:chExt cx="1409400" cy="623880"/>
          </a:xfrm>
        </p:grpSpPr>
        <p:sp>
          <p:nvSpPr>
            <p:cNvPr id="267" name=""/>
            <p:cNvSpPr/>
            <p:nvPr/>
          </p:nvSpPr>
          <p:spPr>
            <a:xfrm rot="4467600">
              <a:off x="3847320" y="3009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9717600">
              <a:off x="4495320" y="320004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480600">
              <a:off x="3580920" y="32004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6652200">
              <a:off x="4228560" y="300960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4876920" y="4052880"/>
            <a:ext cx="91440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800600" y="4038480"/>
            <a:ext cx="380880" cy="7632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666520" y="4057560"/>
            <a:ext cx="1295640" cy="0"/>
          </a:xfrm>
          <a:prstGeom prst="line">
            <a:avLst/>
          </a:prstGeom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1295280"/>
            <a:ext cx="2971800" cy="1800"/>
          </a:xfrm>
          <a:custGeom>
            <a:avLst/>
            <a:gdLst/>
            <a:ahLst/>
            <a:rect l="l" t="t" r="r" b="b"/>
            <a:pathLst>
              <a:path w="1872" h="1">
                <a:moveTo>
                  <a:pt x="0" y="0"/>
                </a:moveTo>
                <a:cubicBezTo>
                  <a:pt x="776" y="0"/>
                  <a:pt x="1552" y="0"/>
                  <a:pt x="1872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ment across the lea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057400" y="1143000"/>
            <a:ext cx="4419360" cy="3015360"/>
            <a:chOff x="2057400" y="1143000"/>
            <a:chExt cx="4419360" cy="3015360"/>
          </a:xfrm>
        </p:grpSpPr>
        <p:sp>
          <p:nvSpPr>
            <p:cNvPr id="277" name=""/>
            <p:cNvSpPr/>
            <p:nvPr/>
          </p:nvSpPr>
          <p:spPr>
            <a:xfrm>
              <a:off x="4713120" y="2862360"/>
              <a:ext cx="897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636800" y="2735280"/>
              <a:ext cx="1031760" cy="225000"/>
              <a:chOff x="4636800" y="2735280"/>
              <a:chExt cx="1031760" cy="225000"/>
            </a:xfrm>
          </p:grpSpPr>
          <p:sp>
            <p:nvSpPr>
              <p:cNvPr id="279" name=""/>
              <p:cNvSpPr/>
              <p:nvPr/>
            </p:nvSpPr>
            <p:spPr>
              <a:xfrm>
                <a:off x="4636800" y="2735280"/>
                <a:ext cx="98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36800" y="2799360"/>
                <a:ext cx="94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79640" y="28317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679640" y="28641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5172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2284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5268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8192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54000" y="27352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2380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3908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54000" y="2799360"/>
                <a:ext cx="42840" cy="644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0"/>
                    </a:moveTo>
                    <a:cubicBezTo>
                      <a:pt x="28" y="40"/>
                      <a:pt x="8" y="80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5680" y="2864160"/>
                <a:ext cx="817200" cy="320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51720" y="2896200"/>
                <a:ext cx="816840" cy="320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22840" y="2928240"/>
                <a:ext cx="816840" cy="320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554440" y="3668760"/>
              <a:ext cx="628920" cy="3603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99080" y="3714840"/>
              <a:ext cx="538200" cy="26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0760" y="3678120"/>
              <a:ext cx="628560" cy="358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36840" y="3722760"/>
              <a:ext cx="538200" cy="26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44480" y="1300320"/>
              <a:ext cx="62892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9056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73400" y="1300320"/>
              <a:ext cx="62856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1768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1960" y="1300320"/>
              <a:ext cx="62712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24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29080" y="1300320"/>
              <a:ext cx="62856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75160" y="1344600"/>
              <a:ext cx="53820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57640" y="1300320"/>
              <a:ext cx="62856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02280" y="1344600"/>
              <a:ext cx="539640" cy="27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06800" y="3656160"/>
              <a:ext cx="627120" cy="358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1440" y="3700440"/>
              <a:ext cx="537840" cy="268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848760" y="3409200"/>
              <a:ext cx="512640" cy="744840"/>
              <a:chOff x="3848760" y="3409200"/>
              <a:chExt cx="512640" cy="744840"/>
            </a:xfrm>
          </p:grpSpPr>
          <p:sp>
            <p:nvSpPr>
              <p:cNvPr id="312" name=""/>
              <p:cNvSpPr/>
              <p:nvPr/>
            </p:nvSpPr>
            <p:spPr>
              <a:xfrm rot="540600">
                <a:off x="3900240" y="3436920"/>
                <a:ext cx="409680" cy="689040"/>
              </a:xfrm>
              <a:custGeom>
                <a:avLst/>
                <a:gdLst/>
                <a:ahLst/>
                <a:rect l="l" t="t" r="r" b="b"/>
                <a:pathLst>
                  <a:path w="878" h="1392">
                    <a:moveTo>
                      <a:pt x="765" y="550"/>
                    </a:moveTo>
                    <a:cubicBezTo>
                      <a:pt x="771" y="540"/>
                      <a:pt x="784" y="533"/>
                      <a:pt x="784" y="521"/>
                    </a:cubicBezTo>
                    <a:cubicBezTo>
                      <a:pt x="784" y="510"/>
                      <a:pt x="770" y="503"/>
                      <a:pt x="765" y="493"/>
                    </a:cubicBezTo>
                    <a:cubicBezTo>
                      <a:pt x="744" y="446"/>
                      <a:pt x="742" y="406"/>
                      <a:pt x="689" y="389"/>
                    </a:cubicBezTo>
                    <a:cubicBezTo>
                      <a:pt x="647" y="327"/>
                      <a:pt x="696" y="388"/>
                      <a:pt x="642" y="351"/>
                    </a:cubicBezTo>
                    <a:cubicBezTo>
                      <a:pt x="594" y="318"/>
                      <a:pt x="632" y="331"/>
                      <a:pt x="595" y="295"/>
                    </a:cubicBezTo>
                    <a:cubicBezTo>
                      <a:pt x="552" y="253"/>
                      <a:pt x="501" y="233"/>
                      <a:pt x="453" y="200"/>
                    </a:cubicBezTo>
                    <a:cubicBezTo>
                      <a:pt x="411" y="138"/>
                      <a:pt x="460" y="199"/>
                      <a:pt x="406" y="162"/>
                    </a:cubicBezTo>
                    <a:cubicBezTo>
                      <a:pt x="340" y="117"/>
                      <a:pt x="414" y="145"/>
                      <a:pt x="349" y="125"/>
                    </a:cubicBezTo>
                    <a:cubicBezTo>
                      <a:pt x="301" y="93"/>
                      <a:pt x="258" y="75"/>
                      <a:pt x="208" y="49"/>
                    </a:cubicBezTo>
                    <a:cubicBezTo>
                      <a:pt x="175" y="32"/>
                      <a:pt x="149" y="13"/>
                      <a:pt x="113" y="2"/>
                    </a:cubicBezTo>
                    <a:cubicBezTo>
                      <a:pt x="68" y="11"/>
                      <a:pt x="65" y="0"/>
                      <a:pt x="47" y="40"/>
                    </a:cubicBezTo>
                    <a:cubicBezTo>
                      <a:pt x="39" y="58"/>
                      <a:pt x="28" y="96"/>
                      <a:pt x="28" y="96"/>
                    </a:cubicBezTo>
                    <a:cubicBezTo>
                      <a:pt x="7" y="220"/>
                      <a:pt x="21" y="173"/>
                      <a:pt x="0" y="238"/>
                    </a:cubicBezTo>
                    <a:cubicBezTo>
                      <a:pt x="3" y="342"/>
                      <a:pt x="0" y="446"/>
                      <a:pt x="9" y="550"/>
                    </a:cubicBezTo>
                    <a:cubicBezTo>
                      <a:pt x="10" y="561"/>
                      <a:pt x="25" y="567"/>
                      <a:pt x="28" y="578"/>
                    </a:cubicBezTo>
                    <a:cubicBezTo>
                      <a:pt x="43" y="637"/>
                      <a:pt x="52" y="706"/>
                      <a:pt x="66" y="767"/>
                    </a:cubicBezTo>
                    <a:cubicBezTo>
                      <a:pt x="70" y="901"/>
                      <a:pt x="53" y="1116"/>
                      <a:pt x="142" y="1248"/>
                    </a:cubicBezTo>
                    <a:cubicBezTo>
                      <a:pt x="188" y="1392"/>
                      <a:pt x="140" y="1306"/>
                      <a:pt x="434" y="1296"/>
                    </a:cubicBezTo>
                    <a:cubicBezTo>
                      <a:pt x="490" y="1277"/>
                      <a:pt x="438" y="1300"/>
                      <a:pt x="491" y="1258"/>
                    </a:cubicBezTo>
                    <a:cubicBezTo>
                      <a:pt x="509" y="1244"/>
                      <a:pt x="548" y="1220"/>
                      <a:pt x="548" y="1220"/>
                    </a:cubicBezTo>
                    <a:cubicBezTo>
                      <a:pt x="597" y="1144"/>
                      <a:pt x="532" y="1232"/>
                      <a:pt x="595" y="1182"/>
                    </a:cubicBezTo>
                    <a:cubicBezTo>
                      <a:pt x="604" y="1175"/>
                      <a:pt x="606" y="1162"/>
                      <a:pt x="614" y="1154"/>
                    </a:cubicBezTo>
                    <a:cubicBezTo>
                      <a:pt x="622" y="1146"/>
                      <a:pt x="633" y="1141"/>
                      <a:pt x="642" y="1135"/>
                    </a:cubicBezTo>
                    <a:cubicBezTo>
                      <a:pt x="663" y="1105"/>
                      <a:pt x="691" y="1092"/>
                      <a:pt x="708" y="1059"/>
                    </a:cubicBezTo>
                    <a:cubicBezTo>
                      <a:pt x="731" y="1013"/>
                      <a:pt x="755" y="961"/>
                      <a:pt x="784" y="918"/>
                    </a:cubicBezTo>
                    <a:cubicBezTo>
                      <a:pt x="806" y="804"/>
                      <a:pt x="770" y="932"/>
                      <a:pt x="831" y="842"/>
                    </a:cubicBezTo>
                    <a:cubicBezTo>
                      <a:pt x="842" y="826"/>
                      <a:pt x="850" y="786"/>
                      <a:pt x="850" y="786"/>
                    </a:cubicBezTo>
                    <a:cubicBezTo>
                      <a:pt x="847" y="729"/>
                      <a:pt x="878" y="602"/>
                      <a:pt x="803" y="578"/>
                    </a:cubicBezTo>
                    <a:cubicBezTo>
                      <a:pt x="790" y="541"/>
                      <a:pt x="779" y="524"/>
                      <a:pt x="746" y="502"/>
                    </a:cubicBezTo>
                    <a:cubicBezTo>
                      <a:pt x="743" y="493"/>
                      <a:pt x="736" y="474"/>
                      <a:pt x="736" y="474"/>
                    </a:cubicBezTo>
                    <a:lnTo>
                      <a:pt x="823" y="559"/>
                    </a:lnTo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40600">
                <a:off x="3928680" y="3472560"/>
                <a:ext cx="318960" cy="576360"/>
              </a:xfrm>
              <a:custGeom>
                <a:avLst/>
                <a:gdLst/>
                <a:ahLst/>
                <a:rect l="l" t="t" r="r" b="b"/>
                <a:pathLst>
                  <a:path w="702" h="1120">
                    <a:moveTo>
                      <a:pt x="105" y="2"/>
                    </a:moveTo>
                    <a:cubicBezTo>
                      <a:pt x="128" y="8"/>
                      <a:pt x="155" y="10"/>
                      <a:pt x="171" y="30"/>
                    </a:cubicBezTo>
                    <a:cubicBezTo>
                      <a:pt x="185" y="48"/>
                      <a:pt x="177" y="77"/>
                      <a:pt x="190" y="96"/>
                    </a:cubicBezTo>
                    <a:cubicBezTo>
                      <a:pt x="206" y="120"/>
                      <a:pt x="258" y="122"/>
                      <a:pt x="275" y="134"/>
                    </a:cubicBezTo>
                    <a:cubicBezTo>
                      <a:pt x="317" y="162"/>
                      <a:pt x="367" y="169"/>
                      <a:pt x="416" y="181"/>
                    </a:cubicBezTo>
                    <a:cubicBezTo>
                      <a:pt x="469" y="219"/>
                      <a:pt x="522" y="257"/>
                      <a:pt x="567" y="304"/>
                    </a:cubicBezTo>
                    <a:cubicBezTo>
                      <a:pt x="593" y="377"/>
                      <a:pt x="555" y="287"/>
                      <a:pt x="605" y="351"/>
                    </a:cubicBezTo>
                    <a:cubicBezTo>
                      <a:pt x="655" y="415"/>
                      <a:pt x="562" y="345"/>
                      <a:pt x="643" y="398"/>
                    </a:cubicBezTo>
                    <a:cubicBezTo>
                      <a:pt x="652" y="427"/>
                      <a:pt x="662" y="455"/>
                      <a:pt x="671" y="483"/>
                    </a:cubicBezTo>
                    <a:cubicBezTo>
                      <a:pt x="682" y="573"/>
                      <a:pt x="702" y="648"/>
                      <a:pt x="671" y="738"/>
                    </a:cubicBezTo>
                    <a:cubicBezTo>
                      <a:pt x="653" y="790"/>
                      <a:pt x="662" y="816"/>
                      <a:pt x="614" y="833"/>
                    </a:cubicBezTo>
                    <a:cubicBezTo>
                      <a:pt x="584" y="880"/>
                      <a:pt x="606" y="854"/>
                      <a:pt x="539" y="899"/>
                    </a:cubicBezTo>
                    <a:cubicBezTo>
                      <a:pt x="530" y="905"/>
                      <a:pt x="511" y="918"/>
                      <a:pt x="511" y="918"/>
                    </a:cubicBezTo>
                    <a:cubicBezTo>
                      <a:pt x="491" y="956"/>
                      <a:pt x="489" y="979"/>
                      <a:pt x="454" y="1003"/>
                    </a:cubicBezTo>
                    <a:cubicBezTo>
                      <a:pt x="402" y="1080"/>
                      <a:pt x="431" y="1052"/>
                      <a:pt x="350" y="1078"/>
                    </a:cubicBezTo>
                    <a:cubicBezTo>
                      <a:pt x="288" y="1120"/>
                      <a:pt x="270" y="1104"/>
                      <a:pt x="180" y="1097"/>
                    </a:cubicBezTo>
                    <a:cubicBezTo>
                      <a:pt x="173" y="1029"/>
                      <a:pt x="176" y="1006"/>
                      <a:pt x="142" y="955"/>
                    </a:cubicBezTo>
                    <a:cubicBezTo>
                      <a:pt x="122" y="896"/>
                      <a:pt x="105" y="836"/>
                      <a:pt x="86" y="776"/>
                    </a:cubicBezTo>
                    <a:cubicBezTo>
                      <a:pt x="80" y="628"/>
                      <a:pt x="82" y="493"/>
                      <a:pt x="48" y="351"/>
                    </a:cubicBezTo>
                    <a:cubicBezTo>
                      <a:pt x="51" y="259"/>
                      <a:pt x="0" y="95"/>
                      <a:pt x="95" y="30"/>
                    </a:cubicBezTo>
                    <a:cubicBezTo>
                      <a:pt x="116" y="0"/>
                      <a:pt x="125" y="2"/>
                      <a:pt x="105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46752f"/>
                  </a:gs>
                </a:gsLst>
                <a:lin ang="5400000"/>
              </a:gradFill>
              <a:ln w="9360">
                <a:solidFill>
                  <a:srgbClr val="99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443840" y="3404880"/>
              <a:ext cx="531720" cy="753480"/>
              <a:chOff x="4443840" y="3404880"/>
              <a:chExt cx="531720" cy="753480"/>
            </a:xfrm>
          </p:grpSpPr>
          <p:sp>
            <p:nvSpPr>
              <p:cNvPr id="315" name=""/>
              <p:cNvSpPr/>
              <p:nvPr/>
            </p:nvSpPr>
            <p:spPr>
              <a:xfrm rot="11448600">
                <a:off x="4504680" y="3436920"/>
                <a:ext cx="409680" cy="689040"/>
              </a:xfrm>
              <a:custGeom>
                <a:avLst/>
                <a:gdLst/>
                <a:ahLst/>
                <a:rect l="l" t="t" r="r" b="b"/>
                <a:pathLst>
                  <a:path w="878" h="1392">
                    <a:moveTo>
                      <a:pt x="765" y="550"/>
                    </a:moveTo>
                    <a:cubicBezTo>
                      <a:pt x="771" y="540"/>
                      <a:pt x="784" y="533"/>
                      <a:pt x="784" y="521"/>
                    </a:cubicBezTo>
                    <a:cubicBezTo>
                      <a:pt x="784" y="510"/>
                      <a:pt x="770" y="503"/>
                      <a:pt x="765" y="493"/>
                    </a:cubicBezTo>
                    <a:cubicBezTo>
                      <a:pt x="744" y="446"/>
                      <a:pt x="742" y="406"/>
                      <a:pt x="689" y="389"/>
                    </a:cubicBezTo>
                    <a:cubicBezTo>
                      <a:pt x="647" y="327"/>
                      <a:pt x="696" y="388"/>
                      <a:pt x="642" y="351"/>
                    </a:cubicBezTo>
                    <a:cubicBezTo>
                      <a:pt x="594" y="318"/>
                      <a:pt x="632" y="331"/>
                      <a:pt x="595" y="295"/>
                    </a:cubicBezTo>
                    <a:cubicBezTo>
                      <a:pt x="552" y="253"/>
                      <a:pt x="501" y="233"/>
                      <a:pt x="453" y="200"/>
                    </a:cubicBezTo>
                    <a:cubicBezTo>
                      <a:pt x="411" y="138"/>
                      <a:pt x="460" y="199"/>
                      <a:pt x="406" y="162"/>
                    </a:cubicBezTo>
                    <a:cubicBezTo>
                      <a:pt x="340" y="117"/>
                      <a:pt x="414" y="145"/>
                      <a:pt x="349" y="125"/>
                    </a:cubicBezTo>
                    <a:cubicBezTo>
                      <a:pt x="301" y="93"/>
                      <a:pt x="258" y="75"/>
                      <a:pt x="208" y="49"/>
                    </a:cubicBezTo>
                    <a:cubicBezTo>
                      <a:pt x="175" y="32"/>
                      <a:pt x="149" y="13"/>
                      <a:pt x="113" y="2"/>
                    </a:cubicBezTo>
                    <a:cubicBezTo>
                      <a:pt x="68" y="11"/>
                      <a:pt x="65" y="0"/>
                      <a:pt x="47" y="40"/>
                    </a:cubicBezTo>
                    <a:cubicBezTo>
                      <a:pt x="39" y="58"/>
                      <a:pt x="28" y="96"/>
                      <a:pt x="28" y="96"/>
                    </a:cubicBezTo>
                    <a:cubicBezTo>
                      <a:pt x="7" y="220"/>
                      <a:pt x="21" y="173"/>
                      <a:pt x="0" y="238"/>
                    </a:cubicBezTo>
                    <a:cubicBezTo>
                      <a:pt x="3" y="342"/>
                      <a:pt x="0" y="446"/>
                      <a:pt x="9" y="550"/>
                    </a:cubicBezTo>
                    <a:cubicBezTo>
                      <a:pt x="10" y="561"/>
                      <a:pt x="25" y="567"/>
                      <a:pt x="28" y="578"/>
                    </a:cubicBezTo>
                    <a:cubicBezTo>
                      <a:pt x="43" y="637"/>
                      <a:pt x="52" y="706"/>
                      <a:pt x="66" y="767"/>
                    </a:cubicBezTo>
                    <a:cubicBezTo>
                      <a:pt x="70" y="901"/>
                      <a:pt x="53" y="1116"/>
                      <a:pt x="142" y="1248"/>
                    </a:cubicBezTo>
                    <a:cubicBezTo>
                      <a:pt x="188" y="1392"/>
                      <a:pt x="140" y="1306"/>
                      <a:pt x="434" y="1296"/>
                    </a:cubicBezTo>
                    <a:cubicBezTo>
                      <a:pt x="490" y="1277"/>
                      <a:pt x="438" y="1300"/>
                      <a:pt x="491" y="1258"/>
                    </a:cubicBezTo>
                    <a:cubicBezTo>
                      <a:pt x="509" y="1244"/>
                      <a:pt x="548" y="1220"/>
                      <a:pt x="548" y="1220"/>
                    </a:cubicBezTo>
                    <a:cubicBezTo>
                      <a:pt x="597" y="1144"/>
                      <a:pt x="532" y="1232"/>
                      <a:pt x="595" y="1182"/>
                    </a:cubicBezTo>
                    <a:cubicBezTo>
                      <a:pt x="604" y="1175"/>
                      <a:pt x="606" y="1162"/>
                      <a:pt x="614" y="1154"/>
                    </a:cubicBezTo>
                    <a:cubicBezTo>
                      <a:pt x="622" y="1146"/>
                      <a:pt x="633" y="1141"/>
                      <a:pt x="642" y="1135"/>
                    </a:cubicBezTo>
                    <a:cubicBezTo>
                      <a:pt x="663" y="1105"/>
                      <a:pt x="691" y="1092"/>
                      <a:pt x="708" y="1059"/>
                    </a:cubicBezTo>
                    <a:cubicBezTo>
                      <a:pt x="731" y="1013"/>
                      <a:pt x="755" y="961"/>
                      <a:pt x="784" y="918"/>
                    </a:cubicBezTo>
                    <a:cubicBezTo>
                      <a:pt x="806" y="804"/>
                      <a:pt x="770" y="932"/>
                      <a:pt x="831" y="842"/>
                    </a:cubicBezTo>
                    <a:cubicBezTo>
                      <a:pt x="842" y="826"/>
                      <a:pt x="850" y="786"/>
                      <a:pt x="850" y="786"/>
                    </a:cubicBezTo>
                    <a:cubicBezTo>
                      <a:pt x="847" y="729"/>
                      <a:pt x="878" y="602"/>
                      <a:pt x="803" y="578"/>
                    </a:cubicBezTo>
                    <a:cubicBezTo>
                      <a:pt x="790" y="541"/>
                      <a:pt x="779" y="524"/>
                      <a:pt x="746" y="502"/>
                    </a:cubicBezTo>
                    <a:cubicBezTo>
                      <a:pt x="743" y="493"/>
                      <a:pt x="736" y="474"/>
                      <a:pt x="736" y="474"/>
                    </a:cubicBezTo>
                    <a:lnTo>
                      <a:pt x="823" y="559"/>
                    </a:lnTo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1448600">
                <a:off x="4566240" y="3513960"/>
                <a:ext cx="318960" cy="576360"/>
              </a:xfrm>
              <a:custGeom>
                <a:avLst/>
                <a:gdLst/>
                <a:ahLst/>
                <a:rect l="l" t="t" r="r" b="b"/>
                <a:pathLst>
                  <a:path w="702" h="1120">
                    <a:moveTo>
                      <a:pt x="105" y="2"/>
                    </a:moveTo>
                    <a:cubicBezTo>
                      <a:pt x="128" y="8"/>
                      <a:pt x="155" y="10"/>
                      <a:pt x="171" y="30"/>
                    </a:cubicBezTo>
                    <a:cubicBezTo>
                      <a:pt x="185" y="48"/>
                      <a:pt x="177" y="77"/>
                      <a:pt x="190" y="96"/>
                    </a:cubicBezTo>
                    <a:cubicBezTo>
                      <a:pt x="206" y="120"/>
                      <a:pt x="258" y="122"/>
                      <a:pt x="275" y="134"/>
                    </a:cubicBezTo>
                    <a:cubicBezTo>
                      <a:pt x="317" y="162"/>
                      <a:pt x="367" y="169"/>
                      <a:pt x="416" y="181"/>
                    </a:cubicBezTo>
                    <a:cubicBezTo>
                      <a:pt x="469" y="219"/>
                      <a:pt x="522" y="257"/>
                      <a:pt x="567" y="304"/>
                    </a:cubicBezTo>
                    <a:cubicBezTo>
                      <a:pt x="593" y="377"/>
                      <a:pt x="555" y="287"/>
                      <a:pt x="605" y="351"/>
                    </a:cubicBezTo>
                    <a:cubicBezTo>
                      <a:pt x="655" y="415"/>
                      <a:pt x="562" y="345"/>
                      <a:pt x="643" y="398"/>
                    </a:cubicBezTo>
                    <a:cubicBezTo>
                      <a:pt x="652" y="427"/>
                      <a:pt x="662" y="455"/>
                      <a:pt x="671" y="483"/>
                    </a:cubicBezTo>
                    <a:cubicBezTo>
                      <a:pt x="682" y="573"/>
                      <a:pt x="702" y="648"/>
                      <a:pt x="671" y="738"/>
                    </a:cubicBezTo>
                    <a:cubicBezTo>
                      <a:pt x="653" y="790"/>
                      <a:pt x="662" y="816"/>
                      <a:pt x="614" y="833"/>
                    </a:cubicBezTo>
                    <a:cubicBezTo>
                      <a:pt x="584" y="880"/>
                      <a:pt x="606" y="854"/>
                      <a:pt x="539" y="899"/>
                    </a:cubicBezTo>
                    <a:cubicBezTo>
                      <a:pt x="530" y="905"/>
                      <a:pt x="511" y="918"/>
                      <a:pt x="511" y="918"/>
                    </a:cubicBezTo>
                    <a:cubicBezTo>
                      <a:pt x="491" y="956"/>
                      <a:pt x="489" y="979"/>
                      <a:pt x="454" y="1003"/>
                    </a:cubicBezTo>
                    <a:cubicBezTo>
                      <a:pt x="402" y="1080"/>
                      <a:pt x="431" y="1052"/>
                      <a:pt x="350" y="1078"/>
                    </a:cubicBezTo>
                    <a:cubicBezTo>
                      <a:pt x="288" y="1120"/>
                      <a:pt x="270" y="1104"/>
                      <a:pt x="180" y="1097"/>
                    </a:cubicBezTo>
                    <a:cubicBezTo>
                      <a:pt x="173" y="1029"/>
                      <a:pt x="176" y="1006"/>
                      <a:pt x="142" y="955"/>
                    </a:cubicBezTo>
                    <a:cubicBezTo>
                      <a:pt x="122" y="896"/>
                      <a:pt x="105" y="836"/>
                      <a:pt x="86" y="776"/>
                    </a:cubicBezTo>
                    <a:cubicBezTo>
                      <a:pt x="80" y="628"/>
                      <a:pt x="82" y="493"/>
                      <a:pt x="48" y="351"/>
                    </a:cubicBezTo>
                    <a:cubicBezTo>
                      <a:pt x="51" y="259"/>
                      <a:pt x="0" y="95"/>
                      <a:pt x="95" y="30"/>
                    </a:cubicBezTo>
                    <a:cubicBezTo>
                      <a:pt x="116" y="0"/>
                      <a:pt x="125" y="2"/>
                      <a:pt x="105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ff66"/>
                  </a:gs>
                  <a:gs pos="100000">
                    <a:srgbClr val="46752f"/>
                  </a:gs>
                </a:gsLst>
                <a:lin ang="5400000"/>
              </a:gradFill>
              <a:ln w="9360">
                <a:solidFill>
                  <a:srgbClr val="99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663640" y="3678120"/>
              <a:ext cx="627120" cy="35892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08280" y="3722760"/>
              <a:ext cx="538200" cy="26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ff66"/>
                </a:gs>
                <a:gs pos="100000">
                  <a:srgbClr val="46752f"/>
                </a:gs>
              </a:gsLst>
              <a:lin ang="54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976480" y="1658880"/>
              <a:ext cx="314280" cy="1031760"/>
              <a:chOff x="2976480" y="1658880"/>
              <a:chExt cx="314280" cy="1031760"/>
            </a:xfrm>
          </p:grpSpPr>
          <p:sp>
            <p:nvSpPr>
              <p:cNvPr id="320" name=""/>
              <p:cNvSpPr/>
              <p:nvPr/>
            </p:nvSpPr>
            <p:spPr>
              <a:xfrm>
                <a:off x="297648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112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617560" y="1658880"/>
              <a:ext cx="314280" cy="1031760"/>
              <a:chOff x="2617560" y="1658880"/>
              <a:chExt cx="314280" cy="1031760"/>
            </a:xfrm>
          </p:grpSpPr>
          <p:sp>
            <p:nvSpPr>
              <p:cNvPr id="323" name=""/>
              <p:cNvSpPr/>
              <p:nvPr/>
            </p:nvSpPr>
            <p:spPr>
              <a:xfrm>
                <a:off x="261756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6220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290760" y="1658880"/>
              <a:ext cx="314280" cy="1031760"/>
              <a:chOff x="3290760" y="1658880"/>
              <a:chExt cx="314280" cy="1031760"/>
            </a:xfrm>
          </p:grpSpPr>
          <p:sp>
            <p:nvSpPr>
              <p:cNvPr id="326" name=""/>
              <p:cNvSpPr/>
              <p:nvPr/>
            </p:nvSpPr>
            <p:spPr>
              <a:xfrm>
                <a:off x="329076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3540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3649680" y="1658880"/>
              <a:ext cx="314280" cy="1031760"/>
              <a:chOff x="3649680" y="1658880"/>
              <a:chExt cx="314280" cy="1031760"/>
            </a:xfrm>
          </p:grpSpPr>
          <p:sp>
            <p:nvSpPr>
              <p:cNvPr id="329" name=""/>
              <p:cNvSpPr/>
              <p:nvPr/>
            </p:nvSpPr>
            <p:spPr>
              <a:xfrm>
                <a:off x="364968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9432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008240" y="1658880"/>
              <a:ext cx="314280" cy="1031760"/>
              <a:chOff x="4008240" y="1658880"/>
              <a:chExt cx="314280" cy="1031760"/>
            </a:xfrm>
          </p:grpSpPr>
          <p:sp>
            <p:nvSpPr>
              <p:cNvPr id="332" name=""/>
              <p:cNvSpPr/>
              <p:nvPr/>
            </p:nvSpPr>
            <p:spPr>
              <a:xfrm>
                <a:off x="400824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5288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322520" y="1658880"/>
              <a:ext cx="314280" cy="1031760"/>
              <a:chOff x="4322520" y="1658880"/>
              <a:chExt cx="314280" cy="1031760"/>
            </a:xfrm>
          </p:grpSpPr>
          <p:sp>
            <p:nvSpPr>
              <p:cNvPr id="335" name=""/>
              <p:cNvSpPr/>
              <p:nvPr/>
            </p:nvSpPr>
            <p:spPr>
              <a:xfrm>
                <a:off x="432252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36716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4636800" y="1658880"/>
              <a:ext cx="314640" cy="1031760"/>
              <a:chOff x="4636800" y="1658880"/>
              <a:chExt cx="314640" cy="1031760"/>
            </a:xfrm>
          </p:grpSpPr>
          <p:sp>
            <p:nvSpPr>
              <p:cNvPr id="338" name=""/>
              <p:cNvSpPr/>
              <p:nvPr/>
            </p:nvSpPr>
            <p:spPr>
              <a:xfrm>
                <a:off x="4636800" y="1658880"/>
                <a:ext cx="314640" cy="1031760"/>
              </a:xfrm>
              <a:custGeom>
                <a:avLst/>
                <a:gdLst>
                  <a:gd name="textAreaLeft" fmla="*/ 15120 w 314640"/>
                  <a:gd name="textAreaRight" fmla="*/ 299520 w 31464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774">
                    <a:moveTo>
                      <a:pt x="3600" y="0"/>
                    </a:moveTo>
                    <a:arcTo wR="3600" hR="3600" stAng="16200000" swAng="-5400000"/>
                    <a:lnTo>
                      <a:pt x="0" y="67174"/>
                    </a:lnTo>
                    <a:arcTo wR="3600" hR="3600" stAng="10800000" swAng="-5400000"/>
                    <a:lnTo>
                      <a:pt x="18000" y="707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681440" y="1703520"/>
                <a:ext cx="225000" cy="942120"/>
              </a:xfrm>
              <a:custGeom>
                <a:avLst/>
                <a:gdLst>
                  <a:gd name="textAreaLeft" fmla="*/ 10800 w 225000"/>
                  <a:gd name="textAreaRight" fmla="*/ 214200 w 22500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334">
                    <a:moveTo>
                      <a:pt x="3600" y="0"/>
                    </a:moveTo>
                    <a:arcTo wR="3600" hR="3600" stAng="16200000" swAng="-5400000"/>
                    <a:lnTo>
                      <a:pt x="0" y="86734"/>
                    </a:lnTo>
                    <a:arcTo wR="3600" hR="3600" stAng="10800000" swAng="-5400000"/>
                    <a:lnTo>
                      <a:pt x="18000" y="903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4951440" y="1658880"/>
              <a:ext cx="314280" cy="1031760"/>
              <a:chOff x="4951440" y="1658880"/>
              <a:chExt cx="314280" cy="1031760"/>
            </a:xfrm>
          </p:grpSpPr>
          <p:sp>
            <p:nvSpPr>
              <p:cNvPr id="341" name=""/>
              <p:cNvSpPr/>
              <p:nvPr/>
            </p:nvSpPr>
            <p:spPr>
              <a:xfrm>
                <a:off x="495144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9608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5265720" y="1658880"/>
              <a:ext cx="314280" cy="1031760"/>
              <a:chOff x="5265720" y="1658880"/>
              <a:chExt cx="314280" cy="1031760"/>
            </a:xfrm>
          </p:grpSpPr>
          <p:sp>
            <p:nvSpPr>
              <p:cNvPr id="344" name=""/>
              <p:cNvSpPr/>
              <p:nvPr/>
            </p:nvSpPr>
            <p:spPr>
              <a:xfrm>
                <a:off x="5265720" y="1658880"/>
                <a:ext cx="314280" cy="1031760"/>
              </a:xfrm>
              <a:custGeom>
                <a:avLst/>
                <a:gdLst>
                  <a:gd name="textAreaLeft" fmla="*/ 15120 w 314280"/>
                  <a:gd name="textAreaRight" fmla="*/ 299160 w 314280"/>
                  <a:gd name="textAreaTop" fmla="*/ 15120 h 1031760"/>
                  <a:gd name="textAreaBottom" fmla="*/ 1016640 h 1031760"/>
                </a:gdLst>
                <a:ahLst/>
                <a:rect l="textAreaLeft" t="textAreaTop" r="textAreaRight" b="textAreaBottom"/>
                <a:pathLst>
                  <a:path w="21600" h="70855">
                    <a:moveTo>
                      <a:pt x="3600" y="0"/>
                    </a:moveTo>
                    <a:arcTo wR="3600" hR="3600" stAng="16200000" swAng="-5400000"/>
                    <a:lnTo>
                      <a:pt x="0" y="67255"/>
                    </a:lnTo>
                    <a:arcTo wR="3600" hR="3600" stAng="10800000" swAng="-5400000"/>
                    <a:lnTo>
                      <a:pt x="18000" y="7085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10360" y="1703520"/>
                <a:ext cx="224640" cy="942120"/>
              </a:xfrm>
              <a:custGeom>
                <a:avLst/>
                <a:gdLst>
                  <a:gd name="textAreaLeft" fmla="*/ 10800 w 224640"/>
                  <a:gd name="textAreaRight" fmla="*/ 213840 w 224640"/>
                  <a:gd name="textAreaTop" fmla="*/ 10800 h 942120"/>
                  <a:gd name="textAreaBottom" fmla="*/ 931320 h 942120"/>
                </a:gdLst>
                <a:ahLst/>
                <a:rect l="textAreaLeft" t="textAreaTop" r="textAreaRight" b="textAreaBottom"/>
                <a:pathLst>
                  <a:path w="21600" h="90478">
                    <a:moveTo>
                      <a:pt x="3600" y="0"/>
                    </a:moveTo>
                    <a:arcTo wR="3600" hR="3600" stAng="16200000" swAng="-5400000"/>
                    <a:lnTo>
                      <a:pt x="0" y="86878"/>
                    </a:lnTo>
                    <a:arcTo wR="3600" hR="3600" stAng="10800000" swAng="-5400000"/>
                    <a:lnTo>
                      <a:pt x="18000" y="9047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581200" y="2673360"/>
              <a:ext cx="565200" cy="555480"/>
              <a:chOff x="2581200" y="2673360"/>
              <a:chExt cx="565200" cy="555480"/>
            </a:xfrm>
          </p:grpSpPr>
          <p:sp>
            <p:nvSpPr>
              <p:cNvPr id="347" name=""/>
              <p:cNvSpPr/>
              <p:nvPr/>
            </p:nvSpPr>
            <p:spPr>
              <a:xfrm>
                <a:off x="2581200" y="2673360"/>
                <a:ext cx="565200" cy="55548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607480" y="2738160"/>
                <a:ext cx="451800" cy="45720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835000" y="3149640"/>
              <a:ext cx="565200" cy="554040"/>
              <a:chOff x="2835000" y="3149640"/>
              <a:chExt cx="565200" cy="554040"/>
            </a:xfrm>
          </p:grpSpPr>
          <p:sp>
            <p:nvSpPr>
              <p:cNvPr id="350" name=""/>
              <p:cNvSpPr/>
              <p:nvPr/>
            </p:nvSpPr>
            <p:spPr>
              <a:xfrm>
                <a:off x="2835000" y="314964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61280" y="321408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54120" y="3094200"/>
              <a:ext cx="565200" cy="555480"/>
              <a:chOff x="3354120" y="3094200"/>
              <a:chExt cx="565200" cy="555480"/>
            </a:xfrm>
          </p:grpSpPr>
          <p:sp>
            <p:nvSpPr>
              <p:cNvPr id="353" name=""/>
              <p:cNvSpPr/>
              <p:nvPr/>
            </p:nvSpPr>
            <p:spPr>
              <a:xfrm>
                <a:off x="3354120" y="3094200"/>
                <a:ext cx="565200" cy="55548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80400" y="3159000"/>
                <a:ext cx="451800" cy="45720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249440" y="2671920"/>
              <a:ext cx="565200" cy="554040"/>
              <a:chOff x="4249440" y="2671920"/>
              <a:chExt cx="565200" cy="554040"/>
            </a:xfrm>
          </p:grpSpPr>
          <p:sp>
            <p:nvSpPr>
              <p:cNvPr id="356" name=""/>
              <p:cNvSpPr/>
              <p:nvPr/>
            </p:nvSpPr>
            <p:spPr>
              <a:xfrm>
                <a:off x="4249440" y="267192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75720" y="273636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3713040" y="2674800"/>
              <a:ext cx="565200" cy="554040"/>
              <a:chOff x="3713040" y="2674800"/>
              <a:chExt cx="565200" cy="554040"/>
            </a:xfrm>
          </p:grpSpPr>
          <p:sp>
            <p:nvSpPr>
              <p:cNvPr id="359" name=""/>
              <p:cNvSpPr/>
              <p:nvPr/>
            </p:nvSpPr>
            <p:spPr>
              <a:xfrm>
                <a:off x="3713040" y="267480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39320" y="273924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681440" y="2960640"/>
              <a:ext cx="565200" cy="554040"/>
              <a:chOff x="4681440" y="2960640"/>
              <a:chExt cx="565200" cy="554040"/>
            </a:xfrm>
          </p:grpSpPr>
          <p:sp>
            <p:nvSpPr>
              <p:cNvPr id="362" name=""/>
              <p:cNvSpPr/>
              <p:nvPr/>
            </p:nvSpPr>
            <p:spPr>
              <a:xfrm>
                <a:off x="4681440" y="2960640"/>
                <a:ext cx="565200" cy="554040"/>
              </a:xfrm>
              <a:custGeom>
                <a:avLst/>
                <a:gdLst/>
                <a:ahLst/>
                <a:rect l="l" t="t" r="r" b="b"/>
                <a:pathLst>
                  <a:path w="604" h="593">
                    <a:moveTo>
                      <a:pt x="283" y="23"/>
                    </a:moveTo>
                    <a:cubicBezTo>
                      <a:pt x="239" y="26"/>
                      <a:pt x="194" y="24"/>
                      <a:pt x="151" y="32"/>
                    </a:cubicBezTo>
                    <a:cubicBezTo>
                      <a:pt x="121" y="37"/>
                      <a:pt x="91" y="82"/>
                      <a:pt x="66" y="98"/>
                    </a:cubicBezTo>
                    <a:cubicBezTo>
                      <a:pt x="35" y="145"/>
                      <a:pt x="13" y="195"/>
                      <a:pt x="0" y="250"/>
                    </a:cubicBezTo>
                    <a:cubicBezTo>
                      <a:pt x="7" y="323"/>
                      <a:pt x="3" y="346"/>
                      <a:pt x="37" y="401"/>
                    </a:cubicBezTo>
                    <a:cubicBezTo>
                      <a:pt x="40" y="432"/>
                      <a:pt x="37" y="465"/>
                      <a:pt x="47" y="495"/>
                    </a:cubicBezTo>
                    <a:cubicBezTo>
                      <a:pt x="51" y="506"/>
                      <a:pt x="65" y="510"/>
                      <a:pt x="75" y="514"/>
                    </a:cubicBezTo>
                    <a:cubicBezTo>
                      <a:pt x="122" y="534"/>
                      <a:pt x="177" y="539"/>
                      <a:pt x="226" y="552"/>
                    </a:cubicBezTo>
                    <a:cubicBezTo>
                      <a:pt x="367" y="546"/>
                      <a:pt x="444" y="593"/>
                      <a:pt x="510" y="495"/>
                    </a:cubicBezTo>
                    <a:cubicBezTo>
                      <a:pt x="557" y="348"/>
                      <a:pt x="604" y="97"/>
                      <a:pt x="434" y="42"/>
                    </a:cubicBezTo>
                    <a:cubicBezTo>
                      <a:pt x="372" y="0"/>
                      <a:pt x="417" y="23"/>
                      <a:pt x="283" y="23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07720" y="3025080"/>
                <a:ext cx="451800" cy="455760"/>
              </a:xfrm>
              <a:custGeom>
                <a:avLst/>
                <a:gdLst/>
                <a:ahLst/>
                <a:rect l="l" t="t" r="r" b="b"/>
                <a:pathLst>
                  <a:path w="483" h="488">
                    <a:moveTo>
                      <a:pt x="242" y="21"/>
                    </a:moveTo>
                    <a:cubicBezTo>
                      <a:pt x="308" y="0"/>
                      <a:pt x="369" y="21"/>
                      <a:pt x="431" y="40"/>
                    </a:cubicBezTo>
                    <a:cubicBezTo>
                      <a:pt x="483" y="119"/>
                      <a:pt x="457" y="282"/>
                      <a:pt x="450" y="361"/>
                    </a:cubicBezTo>
                    <a:cubicBezTo>
                      <a:pt x="447" y="392"/>
                      <a:pt x="384" y="428"/>
                      <a:pt x="384" y="428"/>
                    </a:cubicBezTo>
                    <a:cubicBezTo>
                      <a:pt x="131" y="419"/>
                      <a:pt x="107" y="488"/>
                      <a:pt x="53" y="314"/>
                    </a:cubicBezTo>
                    <a:cubicBezTo>
                      <a:pt x="48" y="259"/>
                      <a:pt x="0" y="66"/>
                      <a:pt x="81" y="50"/>
                    </a:cubicBezTo>
                    <a:cubicBezTo>
                      <a:pt x="118" y="42"/>
                      <a:pt x="157" y="43"/>
                      <a:pt x="195" y="40"/>
                    </a:cubicBezTo>
                    <a:cubicBezTo>
                      <a:pt x="245" y="30"/>
                      <a:pt x="242" y="47"/>
                      <a:pt x="242" y="2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2057400" y="1143000"/>
              <a:ext cx="755640" cy="2909880"/>
            </a:xfrm>
            <a:custGeom>
              <a:avLst/>
              <a:gdLst/>
              <a:ahLst/>
              <a:rect l="l" t="t" r="r" b="b"/>
              <a:pathLst>
                <a:path w="809" h="3114">
                  <a:moveTo>
                    <a:pt x="246" y="9"/>
                  </a:moveTo>
                  <a:cubicBezTo>
                    <a:pt x="389" y="14"/>
                    <a:pt x="528" y="2"/>
                    <a:pt x="661" y="56"/>
                  </a:cubicBezTo>
                  <a:cubicBezTo>
                    <a:pt x="809" y="204"/>
                    <a:pt x="671" y="461"/>
                    <a:pt x="718" y="661"/>
                  </a:cubicBezTo>
                  <a:cubicBezTo>
                    <a:pt x="728" y="1078"/>
                    <a:pt x="675" y="929"/>
                    <a:pt x="765" y="1104"/>
                  </a:cubicBezTo>
                  <a:cubicBezTo>
                    <a:pt x="796" y="1283"/>
                    <a:pt x="775" y="1470"/>
                    <a:pt x="765" y="1652"/>
                  </a:cubicBezTo>
                  <a:cubicBezTo>
                    <a:pt x="762" y="1711"/>
                    <a:pt x="754" y="1743"/>
                    <a:pt x="737" y="1794"/>
                  </a:cubicBezTo>
                  <a:cubicBezTo>
                    <a:pt x="728" y="1822"/>
                    <a:pt x="709" y="1879"/>
                    <a:pt x="709" y="1879"/>
                  </a:cubicBezTo>
                  <a:cubicBezTo>
                    <a:pt x="703" y="2025"/>
                    <a:pt x="708" y="2099"/>
                    <a:pt x="671" y="2219"/>
                  </a:cubicBezTo>
                  <a:cubicBezTo>
                    <a:pt x="674" y="2376"/>
                    <a:pt x="674" y="2534"/>
                    <a:pt x="680" y="2691"/>
                  </a:cubicBezTo>
                  <a:cubicBezTo>
                    <a:pt x="682" y="2735"/>
                    <a:pt x="681" y="2789"/>
                    <a:pt x="727" y="2804"/>
                  </a:cubicBezTo>
                  <a:cubicBezTo>
                    <a:pt x="757" y="2918"/>
                    <a:pt x="784" y="2851"/>
                    <a:pt x="746" y="3050"/>
                  </a:cubicBezTo>
                  <a:cubicBezTo>
                    <a:pt x="740" y="3079"/>
                    <a:pt x="690" y="3073"/>
                    <a:pt x="661" y="3078"/>
                  </a:cubicBezTo>
                  <a:cubicBezTo>
                    <a:pt x="592" y="3114"/>
                    <a:pt x="504" y="3102"/>
                    <a:pt x="435" y="3068"/>
                  </a:cubicBezTo>
                  <a:cubicBezTo>
                    <a:pt x="425" y="3063"/>
                    <a:pt x="416" y="3055"/>
                    <a:pt x="406" y="3050"/>
                  </a:cubicBezTo>
                  <a:cubicBezTo>
                    <a:pt x="388" y="3042"/>
                    <a:pt x="350" y="3031"/>
                    <a:pt x="350" y="3031"/>
                  </a:cubicBezTo>
                  <a:cubicBezTo>
                    <a:pt x="288" y="2990"/>
                    <a:pt x="349" y="3040"/>
                    <a:pt x="312" y="2974"/>
                  </a:cubicBezTo>
                  <a:cubicBezTo>
                    <a:pt x="306" y="2962"/>
                    <a:pt x="293" y="2955"/>
                    <a:pt x="284" y="2946"/>
                  </a:cubicBezTo>
                  <a:cubicBezTo>
                    <a:pt x="245" y="2831"/>
                    <a:pt x="308" y="3008"/>
                    <a:pt x="255" y="2889"/>
                  </a:cubicBezTo>
                  <a:cubicBezTo>
                    <a:pt x="230" y="2833"/>
                    <a:pt x="214" y="2770"/>
                    <a:pt x="199" y="2710"/>
                  </a:cubicBezTo>
                  <a:cubicBezTo>
                    <a:pt x="193" y="2486"/>
                    <a:pt x="193" y="2262"/>
                    <a:pt x="180" y="2039"/>
                  </a:cubicBezTo>
                  <a:cubicBezTo>
                    <a:pt x="174" y="1940"/>
                    <a:pt x="147" y="1844"/>
                    <a:pt x="133" y="1746"/>
                  </a:cubicBezTo>
                  <a:cubicBezTo>
                    <a:pt x="97" y="1492"/>
                    <a:pt x="53" y="1242"/>
                    <a:pt x="0" y="991"/>
                  </a:cubicBezTo>
                  <a:cubicBezTo>
                    <a:pt x="6" y="835"/>
                    <a:pt x="13" y="728"/>
                    <a:pt x="48" y="585"/>
                  </a:cubicBezTo>
                  <a:cubicBezTo>
                    <a:pt x="59" y="539"/>
                    <a:pt x="79" y="497"/>
                    <a:pt x="95" y="453"/>
                  </a:cubicBezTo>
                  <a:cubicBezTo>
                    <a:pt x="102" y="434"/>
                    <a:pt x="114" y="396"/>
                    <a:pt x="114" y="396"/>
                  </a:cubicBezTo>
                  <a:cubicBezTo>
                    <a:pt x="117" y="377"/>
                    <a:pt x="119" y="358"/>
                    <a:pt x="123" y="340"/>
                  </a:cubicBezTo>
                  <a:cubicBezTo>
                    <a:pt x="125" y="330"/>
                    <a:pt x="131" y="321"/>
                    <a:pt x="133" y="311"/>
                  </a:cubicBezTo>
                  <a:cubicBezTo>
                    <a:pt x="136" y="295"/>
                    <a:pt x="141" y="230"/>
                    <a:pt x="151" y="207"/>
                  </a:cubicBezTo>
                  <a:cubicBezTo>
                    <a:pt x="164" y="177"/>
                    <a:pt x="179" y="154"/>
                    <a:pt x="189" y="122"/>
                  </a:cubicBezTo>
                  <a:cubicBezTo>
                    <a:pt x="192" y="100"/>
                    <a:pt x="194" y="78"/>
                    <a:pt x="199" y="56"/>
                  </a:cubicBezTo>
                  <a:cubicBezTo>
                    <a:pt x="204" y="37"/>
                    <a:pt x="218" y="0"/>
                    <a:pt x="218" y="0"/>
                  </a:cubicBezTo>
                  <a:cubicBezTo>
                    <a:pt x="258" y="10"/>
                    <a:pt x="268" y="9"/>
                    <a:pt x="246" y="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81440" y="2708280"/>
              <a:ext cx="89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71920" y="2666880"/>
              <a:ext cx="533520" cy="457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49600" y="1233360"/>
              <a:ext cx="1127160" cy="2909880"/>
            </a:xfrm>
            <a:custGeom>
              <a:avLst/>
              <a:gdLst/>
              <a:ahLst/>
              <a:rect l="l" t="t" r="r" b="b"/>
              <a:pathLst>
                <a:path w="710" h="1833">
                  <a:moveTo>
                    <a:pt x="238" y="5"/>
                  </a:moveTo>
                  <a:cubicBezTo>
                    <a:pt x="358" y="8"/>
                    <a:pt x="475" y="1"/>
                    <a:pt x="586" y="33"/>
                  </a:cubicBezTo>
                  <a:cubicBezTo>
                    <a:pt x="710" y="120"/>
                    <a:pt x="594" y="271"/>
                    <a:pt x="633" y="389"/>
                  </a:cubicBezTo>
                  <a:cubicBezTo>
                    <a:pt x="642" y="635"/>
                    <a:pt x="598" y="547"/>
                    <a:pt x="673" y="650"/>
                  </a:cubicBezTo>
                  <a:cubicBezTo>
                    <a:pt x="699" y="755"/>
                    <a:pt x="682" y="865"/>
                    <a:pt x="673" y="972"/>
                  </a:cubicBezTo>
                  <a:cubicBezTo>
                    <a:pt x="671" y="1007"/>
                    <a:pt x="664" y="1026"/>
                    <a:pt x="649" y="1056"/>
                  </a:cubicBezTo>
                  <a:cubicBezTo>
                    <a:pt x="642" y="1072"/>
                    <a:pt x="626" y="1106"/>
                    <a:pt x="626" y="1106"/>
                  </a:cubicBezTo>
                  <a:cubicBezTo>
                    <a:pt x="621" y="1192"/>
                    <a:pt x="625" y="1236"/>
                    <a:pt x="594" y="1306"/>
                  </a:cubicBezTo>
                  <a:cubicBezTo>
                    <a:pt x="597" y="1399"/>
                    <a:pt x="597" y="1492"/>
                    <a:pt x="602" y="1584"/>
                  </a:cubicBezTo>
                  <a:cubicBezTo>
                    <a:pt x="603" y="1610"/>
                    <a:pt x="603" y="1642"/>
                    <a:pt x="641" y="1651"/>
                  </a:cubicBezTo>
                  <a:cubicBezTo>
                    <a:pt x="666" y="1718"/>
                    <a:pt x="689" y="1678"/>
                    <a:pt x="657" y="1795"/>
                  </a:cubicBezTo>
                  <a:cubicBezTo>
                    <a:pt x="652" y="1812"/>
                    <a:pt x="611" y="1809"/>
                    <a:pt x="586" y="1812"/>
                  </a:cubicBezTo>
                  <a:cubicBezTo>
                    <a:pt x="528" y="1833"/>
                    <a:pt x="455" y="1826"/>
                    <a:pt x="396" y="1806"/>
                  </a:cubicBezTo>
                  <a:cubicBezTo>
                    <a:pt x="388" y="1803"/>
                    <a:pt x="380" y="1798"/>
                    <a:pt x="372" y="1795"/>
                  </a:cubicBezTo>
                  <a:cubicBezTo>
                    <a:pt x="357" y="1791"/>
                    <a:pt x="325" y="1784"/>
                    <a:pt x="325" y="1784"/>
                  </a:cubicBezTo>
                  <a:cubicBezTo>
                    <a:pt x="273" y="1760"/>
                    <a:pt x="324" y="1789"/>
                    <a:pt x="293" y="1751"/>
                  </a:cubicBezTo>
                  <a:cubicBezTo>
                    <a:pt x="289" y="1744"/>
                    <a:pt x="277" y="1739"/>
                    <a:pt x="270" y="1734"/>
                  </a:cubicBezTo>
                  <a:cubicBezTo>
                    <a:pt x="237" y="1666"/>
                    <a:pt x="290" y="1771"/>
                    <a:pt x="246" y="1701"/>
                  </a:cubicBezTo>
                  <a:cubicBezTo>
                    <a:pt x="225" y="1668"/>
                    <a:pt x="216" y="1591"/>
                    <a:pt x="203" y="1555"/>
                  </a:cubicBezTo>
                  <a:cubicBezTo>
                    <a:pt x="199" y="1423"/>
                    <a:pt x="16" y="1309"/>
                    <a:pt x="5" y="1178"/>
                  </a:cubicBezTo>
                  <a:cubicBezTo>
                    <a:pt x="0" y="1120"/>
                    <a:pt x="149" y="1066"/>
                    <a:pt x="137" y="1008"/>
                  </a:cubicBezTo>
                  <a:cubicBezTo>
                    <a:pt x="107" y="859"/>
                    <a:pt x="106" y="702"/>
                    <a:pt x="62" y="554"/>
                  </a:cubicBezTo>
                  <a:cubicBezTo>
                    <a:pt x="67" y="462"/>
                    <a:pt x="133" y="406"/>
                    <a:pt x="161" y="321"/>
                  </a:cubicBezTo>
                  <a:cubicBezTo>
                    <a:pt x="134" y="304"/>
                    <a:pt x="98" y="293"/>
                    <a:pt x="111" y="267"/>
                  </a:cubicBezTo>
                  <a:cubicBezTo>
                    <a:pt x="117" y="255"/>
                    <a:pt x="127" y="233"/>
                    <a:pt x="127" y="233"/>
                  </a:cubicBezTo>
                  <a:cubicBezTo>
                    <a:pt x="130" y="222"/>
                    <a:pt x="131" y="211"/>
                    <a:pt x="135" y="200"/>
                  </a:cubicBezTo>
                  <a:cubicBezTo>
                    <a:pt x="137" y="194"/>
                    <a:pt x="142" y="189"/>
                    <a:pt x="143" y="183"/>
                  </a:cubicBezTo>
                  <a:cubicBezTo>
                    <a:pt x="146" y="174"/>
                    <a:pt x="150" y="135"/>
                    <a:pt x="158" y="122"/>
                  </a:cubicBezTo>
                  <a:cubicBezTo>
                    <a:pt x="170" y="104"/>
                    <a:pt x="182" y="91"/>
                    <a:pt x="190" y="72"/>
                  </a:cubicBezTo>
                  <a:cubicBezTo>
                    <a:pt x="193" y="59"/>
                    <a:pt x="194" y="46"/>
                    <a:pt x="198" y="33"/>
                  </a:cubicBezTo>
                  <a:cubicBezTo>
                    <a:pt x="203" y="22"/>
                    <a:pt x="214" y="0"/>
                    <a:pt x="214" y="0"/>
                  </a:cubicBezTo>
                  <a:cubicBezTo>
                    <a:pt x="248" y="6"/>
                    <a:pt x="257" y="5"/>
                    <a:pt x="238" y="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76320" y="1236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pper epider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320" y="1974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lisade mesophy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840" y="2979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ongy mesophy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36417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wer epider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4114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320" y="762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170964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274320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990720"/>
            <a:ext cx="19047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1447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886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997560" y="4036320"/>
            <a:ext cx="1815120" cy="31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276720" y="4038480"/>
            <a:ext cx="99036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4952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vapour diffuses into the air down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409720" y="237636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4290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west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in the 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81480" y="3505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81480" y="274320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044600" y="2711160"/>
            <a:ext cx="1037160" cy="454680"/>
            <a:chOff x="4044600" y="2711160"/>
            <a:chExt cx="1037160" cy="454680"/>
          </a:xfrm>
        </p:grpSpPr>
        <p:sp>
          <p:nvSpPr>
            <p:cNvPr id="389" name=""/>
            <p:cNvSpPr/>
            <p:nvPr/>
          </p:nvSpPr>
          <p:spPr>
            <a:xfrm rot="20273400">
              <a:off x="4368600" y="2835360"/>
              <a:ext cx="699840" cy="206280"/>
            </a:xfrm>
            <a:prstGeom prst="leftArrow">
              <a:avLst>
                <a:gd name="adj1" fmla="val 50000"/>
                <a:gd name="adj2" fmla="val 84817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20914800">
              <a:off x="4047840" y="2843280"/>
              <a:ext cx="687240" cy="104760"/>
            </a:xfrm>
            <a:prstGeom prst="leftArrow">
              <a:avLst>
                <a:gd name="adj1" fmla="val 50000"/>
                <a:gd name="adj2" fmla="val 164003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715000" y="3657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evaporates from the spongy mesophyll cell surface lowering cell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95596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moves into cells down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 gradient by osm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21938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water is pulled along the xy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ohesion Tension Hypothesis for Movement of Water up the Xylem Vess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04920" y="1143000"/>
            <a:ext cx="5155920" cy="3865320"/>
            <a:chOff x="304920" y="1143000"/>
            <a:chExt cx="5155920" cy="3865320"/>
          </a:xfrm>
        </p:grpSpPr>
        <p:sp>
          <p:nvSpPr>
            <p:cNvPr id="396" name=""/>
            <p:cNvSpPr/>
            <p:nvPr/>
          </p:nvSpPr>
          <p:spPr>
            <a:xfrm>
              <a:off x="1673280" y="1445040"/>
              <a:ext cx="59040" cy="205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920" y="3561840"/>
              <a:ext cx="3093480" cy="0"/>
            </a:xfrm>
            <a:prstGeom prst="line">
              <a:avLst/>
            </a:prstGeom>
            <a:ln w="38160">
              <a:solidFill>
                <a:srgbClr val="cc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19960" y="1445040"/>
              <a:ext cx="59400" cy="2055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3280" y="3682800"/>
              <a:ext cx="59040" cy="120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19960" y="3682800"/>
              <a:ext cx="59400" cy="120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2089440" y="4227120"/>
              <a:ext cx="654480" cy="423360"/>
              <a:chOff x="2089440" y="4227120"/>
              <a:chExt cx="654480" cy="423360"/>
            </a:xfrm>
          </p:grpSpPr>
          <p:sp>
            <p:nvSpPr>
              <p:cNvPr id="402" name=""/>
              <p:cNvSpPr/>
              <p:nvPr/>
            </p:nvSpPr>
            <p:spPr>
              <a:xfrm>
                <a:off x="2089440" y="4227120"/>
                <a:ext cx="654480" cy="423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178720" y="4287600"/>
                <a:ext cx="475560" cy="30204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43920" y="4227120"/>
              <a:ext cx="475560" cy="423360"/>
              <a:chOff x="2743920" y="4227120"/>
              <a:chExt cx="475560" cy="42336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2743920" y="4227120"/>
                <a:ext cx="475560" cy="423360"/>
                <a:chOff x="2743920" y="4227120"/>
                <a:chExt cx="475560" cy="4233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2743920" y="4227120"/>
                  <a:ext cx="47556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08720" y="4287600"/>
                  <a:ext cx="345600" cy="302040"/>
                </a:xfrm>
                <a:prstGeom prst="roundRect">
                  <a:avLst>
                    <a:gd name="adj" fmla="val 16667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2981520" y="4227120"/>
                <a:ext cx="0" cy="60480"/>
              </a:xfrm>
              <a:prstGeom prst="line">
                <a:avLst/>
              </a:prstGeom>
              <a:ln w="76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81520" y="4589640"/>
                <a:ext cx="0" cy="60480"/>
              </a:xfrm>
              <a:prstGeom prst="line">
                <a:avLst/>
              </a:prstGeom>
              <a:ln w="7632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229560" y="4106160"/>
              <a:ext cx="731160" cy="692640"/>
              <a:chOff x="3229560" y="4106160"/>
              <a:chExt cx="731160" cy="692640"/>
            </a:xfrm>
          </p:grpSpPr>
          <p:sp>
            <p:nvSpPr>
              <p:cNvPr id="411" name=""/>
              <p:cNvSpPr/>
              <p:nvPr/>
            </p:nvSpPr>
            <p:spPr>
              <a:xfrm>
                <a:off x="3229560" y="4106160"/>
                <a:ext cx="731160" cy="69264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230280" y="4191480"/>
                <a:ext cx="669960" cy="51732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3823920" y="4017600"/>
              <a:ext cx="970920" cy="990720"/>
              <a:chOff x="3823920" y="4017600"/>
              <a:chExt cx="970920" cy="990720"/>
            </a:xfrm>
          </p:grpSpPr>
          <p:sp>
            <p:nvSpPr>
              <p:cNvPr id="414" name=""/>
              <p:cNvSpPr/>
              <p:nvPr/>
            </p:nvSpPr>
            <p:spPr>
              <a:xfrm rot="3498600">
                <a:off x="3937680" y="4172040"/>
                <a:ext cx="743400" cy="68184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3498600">
                <a:off x="3954600" y="4231080"/>
                <a:ext cx="681480" cy="50904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27800" y="3985200"/>
              <a:ext cx="833040" cy="967680"/>
              <a:chOff x="4627800" y="3985200"/>
              <a:chExt cx="833040" cy="967680"/>
            </a:xfrm>
          </p:grpSpPr>
          <p:sp>
            <p:nvSpPr>
              <p:cNvPr id="417" name=""/>
              <p:cNvSpPr/>
              <p:nvPr/>
            </p:nvSpPr>
            <p:spPr>
              <a:xfrm>
                <a:off x="4635720" y="3985200"/>
                <a:ext cx="825120" cy="967680"/>
              </a:xfrm>
              <a:custGeom>
                <a:avLst/>
                <a:gdLst/>
                <a:ahLst/>
                <a:rect l="l" t="t" r="r" b="b"/>
                <a:pathLst>
                  <a:path w="1632" h="1632">
                    <a:moveTo>
                      <a:pt x="124" y="157"/>
                    </a:moveTo>
                    <a:cubicBezTo>
                      <a:pt x="309" y="0"/>
                      <a:pt x="566" y="112"/>
                      <a:pt x="778" y="165"/>
                    </a:cubicBezTo>
                    <a:cubicBezTo>
                      <a:pt x="824" y="205"/>
                      <a:pt x="842" y="271"/>
                      <a:pt x="855" y="338"/>
                    </a:cubicBezTo>
                    <a:cubicBezTo>
                      <a:pt x="858" y="428"/>
                      <a:pt x="840" y="531"/>
                      <a:pt x="881" y="609"/>
                    </a:cubicBezTo>
                    <a:cubicBezTo>
                      <a:pt x="884" y="656"/>
                      <a:pt x="868" y="715"/>
                      <a:pt x="894" y="748"/>
                    </a:cubicBezTo>
                    <a:cubicBezTo>
                      <a:pt x="905" y="763"/>
                      <a:pt x="933" y="781"/>
                      <a:pt x="933" y="781"/>
                    </a:cubicBezTo>
                    <a:cubicBezTo>
                      <a:pt x="1117" y="778"/>
                      <a:pt x="1299" y="773"/>
                      <a:pt x="1483" y="773"/>
                    </a:cubicBezTo>
                    <a:cubicBezTo>
                      <a:pt x="1546" y="773"/>
                      <a:pt x="1575" y="768"/>
                      <a:pt x="1619" y="806"/>
                    </a:cubicBezTo>
                    <a:cubicBezTo>
                      <a:pt x="1622" y="839"/>
                      <a:pt x="1632" y="871"/>
                      <a:pt x="1632" y="904"/>
                    </a:cubicBezTo>
                    <a:cubicBezTo>
                      <a:pt x="1625" y="938"/>
                      <a:pt x="1599" y="974"/>
                      <a:pt x="1544" y="992"/>
                    </a:cubicBezTo>
                    <a:cubicBezTo>
                      <a:pt x="1489" y="1010"/>
                      <a:pt x="1406" y="1006"/>
                      <a:pt x="1302" y="1011"/>
                    </a:cubicBezTo>
                    <a:cubicBezTo>
                      <a:pt x="1175" y="1014"/>
                      <a:pt x="1047" y="1016"/>
                      <a:pt x="920" y="1019"/>
                    </a:cubicBezTo>
                    <a:cubicBezTo>
                      <a:pt x="901" y="1054"/>
                      <a:pt x="880" y="1067"/>
                      <a:pt x="868" y="1110"/>
                    </a:cubicBezTo>
                    <a:cubicBezTo>
                      <a:pt x="861" y="1632"/>
                      <a:pt x="973" y="1577"/>
                      <a:pt x="629" y="1586"/>
                    </a:cubicBezTo>
                    <a:cubicBezTo>
                      <a:pt x="510" y="1589"/>
                      <a:pt x="392" y="1591"/>
                      <a:pt x="273" y="1594"/>
                    </a:cubicBezTo>
                    <a:cubicBezTo>
                      <a:pt x="210" y="1590"/>
                      <a:pt x="145" y="1603"/>
                      <a:pt x="85" y="1578"/>
                    </a:cubicBezTo>
                    <a:cubicBezTo>
                      <a:pt x="65" y="1569"/>
                      <a:pt x="66" y="1529"/>
                      <a:pt x="59" y="1504"/>
                    </a:cubicBezTo>
                    <a:cubicBezTo>
                      <a:pt x="57" y="1495"/>
                      <a:pt x="53" y="1479"/>
                      <a:pt x="53" y="1479"/>
                    </a:cubicBezTo>
                    <a:cubicBezTo>
                      <a:pt x="57" y="1386"/>
                      <a:pt x="67" y="1306"/>
                      <a:pt x="85" y="1216"/>
                    </a:cubicBezTo>
                    <a:cubicBezTo>
                      <a:pt x="87" y="1019"/>
                      <a:pt x="89" y="822"/>
                      <a:pt x="91" y="625"/>
                    </a:cubicBezTo>
                    <a:cubicBezTo>
                      <a:pt x="93" y="468"/>
                      <a:pt x="0" y="157"/>
                      <a:pt x="124" y="157"/>
                    </a:cubicBez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27800" y="4082760"/>
                <a:ext cx="820080" cy="827280"/>
              </a:xfrm>
              <a:custGeom>
                <a:avLst/>
                <a:gdLst/>
                <a:ahLst/>
                <a:rect l="l" t="t" r="r" b="b"/>
                <a:pathLst>
                  <a:path w="1681" h="1459">
                    <a:moveTo>
                      <a:pt x="331" y="35"/>
                    </a:moveTo>
                    <a:cubicBezTo>
                      <a:pt x="437" y="0"/>
                      <a:pt x="361" y="22"/>
                      <a:pt x="619" y="35"/>
                    </a:cubicBezTo>
                    <a:cubicBezTo>
                      <a:pt x="662" y="37"/>
                      <a:pt x="747" y="59"/>
                      <a:pt x="747" y="59"/>
                    </a:cubicBezTo>
                    <a:cubicBezTo>
                      <a:pt x="819" y="107"/>
                      <a:pt x="746" y="194"/>
                      <a:pt x="811" y="259"/>
                    </a:cubicBezTo>
                    <a:cubicBezTo>
                      <a:pt x="821" y="289"/>
                      <a:pt x="839" y="311"/>
                      <a:pt x="851" y="339"/>
                    </a:cubicBezTo>
                    <a:cubicBezTo>
                      <a:pt x="858" y="354"/>
                      <a:pt x="867" y="387"/>
                      <a:pt x="867" y="387"/>
                    </a:cubicBezTo>
                    <a:cubicBezTo>
                      <a:pt x="870" y="427"/>
                      <a:pt x="872" y="467"/>
                      <a:pt x="875" y="507"/>
                    </a:cubicBezTo>
                    <a:cubicBezTo>
                      <a:pt x="877" y="531"/>
                      <a:pt x="879" y="555"/>
                      <a:pt x="883" y="579"/>
                    </a:cubicBezTo>
                    <a:cubicBezTo>
                      <a:pt x="902" y="699"/>
                      <a:pt x="949" y="675"/>
                      <a:pt x="1059" y="683"/>
                    </a:cubicBezTo>
                    <a:cubicBezTo>
                      <a:pt x="1203" y="719"/>
                      <a:pt x="1407" y="695"/>
                      <a:pt x="1547" y="691"/>
                    </a:cubicBezTo>
                    <a:cubicBezTo>
                      <a:pt x="1564" y="688"/>
                      <a:pt x="1631" y="670"/>
                      <a:pt x="1643" y="691"/>
                    </a:cubicBezTo>
                    <a:cubicBezTo>
                      <a:pt x="1681" y="760"/>
                      <a:pt x="1622" y="797"/>
                      <a:pt x="1579" y="811"/>
                    </a:cubicBezTo>
                    <a:cubicBezTo>
                      <a:pt x="1379" y="878"/>
                      <a:pt x="1158" y="816"/>
                      <a:pt x="947" y="819"/>
                    </a:cubicBezTo>
                    <a:cubicBezTo>
                      <a:pt x="892" y="837"/>
                      <a:pt x="933" y="866"/>
                      <a:pt x="907" y="899"/>
                    </a:cubicBezTo>
                    <a:cubicBezTo>
                      <a:pt x="901" y="907"/>
                      <a:pt x="891" y="910"/>
                      <a:pt x="883" y="915"/>
                    </a:cubicBezTo>
                    <a:cubicBezTo>
                      <a:pt x="786" y="1060"/>
                      <a:pt x="921" y="1266"/>
                      <a:pt x="835" y="1395"/>
                    </a:cubicBezTo>
                    <a:cubicBezTo>
                      <a:pt x="826" y="1431"/>
                      <a:pt x="823" y="1447"/>
                      <a:pt x="787" y="1459"/>
                    </a:cubicBezTo>
                    <a:cubicBezTo>
                      <a:pt x="600" y="1456"/>
                      <a:pt x="414" y="1456"/>
                      <a:pt x="227" y="1451"/>
                    </a:cubicBezTo>
                    <a:cubicBezTo>
                      <a:pt x="182" y="1450"/>
                      <a:pt x="190" y="1451"/>
                      <a:pt x="179" y="1419"/>
                    </a:cubicBezTo>
                    <a:cubicBezTo>
                      <a:pt x="184" y="1191"/>
                      <a:pt x="194" y="1013"/>
                      <a:pt x="203" y="795"/>
                    </a:cubicBezTo>
                    <a:cubicBezTo>
                      <a:pt x="205" y="594"/>
                      <a:pt x="0" y="35"/>
                      <a:pt x="331" y="3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2113200" y="1143000"/>
              <a:ext cx="2642400" cy="1026360"/>
              <a:chOff x="2113200" y="1143000"/>
              <a:chExt cx="2642400" cy="1026360"/>
            </a:xfrm>
          </p:grpSpPr>
          <p:sp>
            <p:nvSpPr>
              <p:cNvPr id="420" name=""/>
              <p:cNvSpPr/>
              <p:nvPr/>
            </p:nvSpPr>
            <p:spPr>
              <a:xfrm>
                <a:off x="3304080" y="1143000"/>
                <a:ext cx="581040" cy="53532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113200" y="1432440"/>
                <a:ext cx="425160" cy="42840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136600" y="1471680"/>
                <a:ext cx="374040" cy="32724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320800">
                <a:off x="3070800" y="1510200"/>
                <a:ext cx="419400" cy="4323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5320800">
                <a:off x="3107520" y="1559520"/>
                <a:ext cx="369000" cy="32940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38360" y="1432440"/>
                <a:ext cx="581040" cy="535320"/>
              </a:xfrm>
              <a:custGeom>
                <a:avLst/>
                <a:gdLst/>
                <a:ahLst/>
                <a:rect l="l" t="t" r="r" b="b"/>
                <a:pathLst>
                  <a:path w="753" h="600">
                    <a:moveTo>
                      <a:pt x="387" y="10"/>
                    </a:moveTo>
                    <a:cubicBezTo>
                      <a:pt x="206" y="17"/>
                      <a:pt x="174" y="0"/>
                      <a:pt x="51" y="82"/>
                    </a:cubicBezTo>
                    <a:cubicBezTo>
                      <a:pt x="32" y="111"/>
                      <a:pt x="14" y="145"/>
                      <a:pt x="3" y="178"/>
                    </a:cubicBezTo>
                    <a:cubicBezTo>
                      <a:pt x="6" y="253"/>
                      <a:pt x="0" y="328"/>
                      <a:pt x="11" y="402"/>
                    </a:cubicBezTo>
                    <a:cubicBezTo>
                      <a:pt x="16" y="433"/>
                      <a:pt x="48" y="453"/>
                      <a:pt x="59" y="482"/>
                    </a:cubicBezTo>
                    <a:cubicBezTo>
                      <a:pt x="63" y="492"/>
                      <a:pt x="60" y="506"/>
                      <a:pt x="67" y="514"/>
                    </a:cubicBezTo>
                    <a:cubicBezTo>
                      <a:pt x="88" y="539"/>
                      <a:pt x="144" y="549"/>
                      <a:pt x="171" y="554"/>
                    </a:cubicBezTo>
                    <a:cubicBezTo>
                      <a:pt x="240" y="600"/>
                      <a:pt x="373" y="573"/>
                      <a:pt x="443" y="570"/>
                    </a:cubicBezTo>
                    <a:cubicBezTo>
                      <a:pt x="492" y="558"/>
                      <a:pt x="527" y="534"/>
                      <a:pt x="571" y="514"/>
                    </a:cubicBezTo>
                    <a:cubicBezTo>
                      <a:pt x="586" y="507"/>
                      <a:pt x="619" y="498"/>
                      <a:pt x="619" y="498"/>
                    </a:cubicBezTo>
                    <a:cubicBezTo>
                      <a:pt x="625" y="480"/>
                      <a:pt x="633" y="442"/>
                      <a:pt x="651" y="426"/>
                    </a:cubicBezTo>
                    <a:cubicBezTo>
                      <a:pt x="665" y="413"/>
                      <a:pt x="683" y="405"/>
                      <a:pt x="699" y="394"/>
                    </a:cubicBezTo>
                    <a:cubicBezTo>
                      <a:pt x="707" y="389"/>
                      <a:pt x="723" y="378"/>
                      <a:pt x="723" y="378"/>
                    </a:cubicBezTo>
                    <a:cubicBezTo>
                      <a:pt x="753" y="289"/>
                      <a:pt x="741" y="169"/>
                      <a:pt x="659" y="114"/>
                    </a:cubicBezTo>
                    <a:cubicBezTo>
                      <a:pt x="631" y="31"/>
                      <a:pt x="543" y="32"/>
                      <a:pt x="467" y="26"/>
                    </a:cubicBezTo>
                    <a:cubicBezTo>
                      <a:pt x="462" y="25"/>
                      <a:pt x="346" y="10"/>
                      <a:pt x="387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39440" y="1498320"/>
                <a:ext cx="531720" cy="40032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305160" y="1208160"/>
                <a:ext cx="531720" cy="400680"/>
              </a:xfrm>
              <a:custGeom>
                <a:avLst/>
                <a:gdLst/>
                <a:ahLst/>
                <a:rect l="l" t="t" r="r" b="b"/>
                <a:pathLst>
                  <a:path w="690" h="448">
                    <a:moveTo>
                      <a:pt x="546" y="32"/>
                    </a:moveTo>
                    <a:cubicBezTo>
                      <a:pt x="460" y="25"/>
                      <a:pt x="380" y="8"/>
                      <a:pt x="294" y="0"/>
                    </a:cubicBezTo>
                    <a:cubicBezTo>
                      <a:pt x="196" y="5"/>
                      <a:pt x="147" y="4"/>
                      <a:pt x="65" y="32"/>
                    </a:cubicBezTo>
                    <a:cubicBezTo>
                      <a:pt x="64" y="35"/>
                      <a:pt x="41" y="103"/>
                      <a:pt x="41" y="104"/>
                    </a:cubicBezTo>
                    <a:cubicBezTo>
                      <a:pt x="36" y="120"/>
                      <a:pt x="26" y="152"/>
                      <a:pt x="26" y="152"/>
                    </a:cubicBezTo>
                    <a:cubicBezTo>
                      <a:pt x="30" y="243"/>
                      <a:pt x="0" y="351"/>
                      <a:pt x="97" y="384"/>
                    </a:cubicBezTo>
                    <a:cubicBezTo>
                      <a:pt x="110" y="426"/>
                      <a:pt x="140" y="419"/>
                      <a:pt x="183" y="424"/>
                    </a:cubicBezTo>
                    <a:cubicBezTo>
                      <a:pt x="231" y="430"/>
                      <a:pt x="273" y="433"/>
                      <a:pt x="317" y="448"/>
                    </a:cubicBezTo>
                    <a:cubicBezTo>
                      <a:pt x="391" y="445"/>
                      <a:pt x="465" y="410"/>
                      <a:pt x="538" y="400"/>
                    </a:cubicBezTo>
                    <a:cubicBezTo>
                      <a:pt x="548" y="399"/>
                      <a:pt x="546" y="422"/>
                      <a:pt x="554" y="416"/>
                    </a:cubicBezTo>
                    <a:cubicBezTo>
                      <a:pt x="562" y="409"/>
                      <a:pt x="608" y="368"/>
                      <a:pt x="610" y="368"/>
                    </a:cubicBezTo>
                    <a:cubicBezTo>
                      <a:pt x="618" y="345"/>
                      <a:pt x="617" y="347"/>
                      <a:pt x="633" y="328"/>
                    </a:cubicBezTo>
                    <a:cubicBezTo>
                      <a:pt x="644" y="315"/>
                      <a:pt x="680" y="312"/>
                      <a:pt x="680" y="312"/>
                    </a:cubicBezTo>
                    <a:cubicBezTo>
                      <a:pt x="683" y="304"/>
                      <a:pt x="688" y="296"/>
                      <a:pt x="688" y="288"/>
                    </a:cubicBezTo>
                    <a:cubicBezTo>
                      <a:pt x="688" y="240"/>
                      <a:pt x="690" y="191"/>
                      <a:pt x="680" y="144"/>
                    </a:cubicBezTo>
                    <a:cubicBezTo>
                      <a:pt x="665" y="72"/>
                      <a:pt x="587" y="73"/>
                      <a:pt x="546" y="32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476520" y="1742400"/>
                <a:ext cx="424800" cy="4269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99920" y="1781640"/>
                <a:ext cx="374040" cy="32616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6548600">
                <a:off x="4383000" y="1514880"/>
                <a:ext cx="220320" cy="504000"/>
              </a:xfrm>
              <a:custGeom>
                <a:avLst/>
                <a:gdLst/>
                <a:ahLst/>
                <a:rect l="l" t="t" r="r" b="b"/>
                <a:pathLst>
                  <a:path w="379" h="600">
                    <a:moveTo>
                      <a:pt x="96" y="16"/>
                    </a:moveTo>
                    <a:cubicBezTo>
                      <a:pt x="141" y="19"/>
                      <a:pt x="197" y="5"/>
                      <a:pt x="232" y="40"/>
                    </a:cubicBezTo>
                    <a:cubicBezTo>
                      <a:pt x="251" y="59"/>
                      <a:pt x="256" y="88"/>
                      <a:pt x="264" y="112"/>
                    </a:cubicBezTo>
                    <a:cubicBezTo>
                      <a:pt x="267" y="120"/>
                      <a:pt x="272" y="136"/>
                      <a:pt x="272" y="136"/>
                    </a:cubicBezTo>
                    <a:cubicBezTo>
                      <a:pt x="290" y="282"/>
                      <a:pt x="379" y="546"/>
                      <a:pt x="216" y="600"/>
                    </a:cubicBezTo>
                    <a:cubicBezTo>
                      <a:pt x="143" y="593"/>
                      <a:pt x="125" y="596"/>
                      <a:pt x="72" y="560"/>
                    </a:cubicBezTo>
                    <a:cubicBezTo>
                      <a:pt x="57" y="515"/>
                      <a:pt x="16" y="487"/>
                      <a:pt x="0" y="440"/>
                    </a:cubicBezTo>
                    <a:cubicBezTo>
                      <a:pt x="3" y="317"/>
                      <a:pt x="1" y="194"/>
                      <a:pt x="8" y="72"/>
                    </a:cubicBezTo>
                    <a:cubicBezTo>
                      <a:pt x="11" y="16"/>
                      <a:pt x="49" y="0"/>
                      <a:pt x="96" y="16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548600">
                <a:off x="4419720" y="1569600"/>
                <a:ext cx="162360" cy="446040"/>
              </a:xfrm>
              <a:custGeom>
                <a:avLst/>
                <a:gdLst/>
                <a:ahLst/>
                <a:rect l="l" t="t" r="r" b="b"/>
                <a:pathLst>
                  <a:path w="280" h="532">
                    <a:moveTo>
                      <a:pt x="68" y="0"/>
                    </a:moveTo>
                    <a:cubicBezTo>
                      <a:pt x="144" y="25"/>
                      <a:pt x="99" y="14"/>
                      <a:pt x="204" y="24"/>
                    </a:cubicBezTo>
                    <a:cubicBezTo>
                      <a:pt x="212" y="54"/>
                      <a:pt x="226" y="75"/>
                      <a:pt x="236" y="104"/>
                    </a:cubicBezTo>
                    <a:cubicBezTo>
                      <a:pt x="244" y="183"/>
                      <a:pt x="257" y="259"/>
                      <a:pt x="276" y="336"/>
                    </a:cubicBezTo>
                    <a:cubicBezTo>
                      <a:pt x="273" y="389"/>
                      <a:pt x="280" y="427"/>
                      <a:pt x="252" y="472"/>
                    </a:cubicBezTo>
                    <a:cubicBezTo>
                      <a:pt x="235" y="499"/>
                      <a:pt x="204" y="499"/>
                      <a:pt x="172" y="504"/>
                    </a:cubicBezTo>
                    <a:cubicBezTo>
                      <a:pt x="155" y="507"/>
                      <a:pt x="124" y="520"/>
                      <a:pt x="124" y="520"/>
                    </a:cubicBezTo>
                    <a:cubicBezTo>
                      <a:pt x="78" y="451"/>
                      <a:pt x="139" y="532"/>
                      <a:pt x="84" y="488"/>
                    </a:cubicBezTo>
                    <a:cubicBezTo>
                      <a:pt x="32" y="447"/>
                      <a:pt x="104" y="476"/>
                      <a:pt x="44" y="456"/>
                    </a:cubicBezTo>
                    <a:cubicBezTo>
                      <a:pt x="0" y="325"/>
                      <a:pt x="52" y="489"/>
                      <a:pt x="20" y="360"/>
                    </a:cubicBezTo>
                    <a:cubicBezTo>
                      <a:pt x="16" y="344"/>
                      <a:pt x="28" y="312"/>
                      <a:pt x="28" y="312"/>
                    </a:cubicBezTo>
                    <a:cubicBezTo>
                      <a:pt x="31" y="267"/>
                      <a:pt x="5" y="221"/>
                      <a:pt x="12" y="176"/>
                    </a:cubicBezTo>
                    <a:cubicBezTo>
                      <a:pt x="13" y="166"/>
                      <a:pt x="52" y="168"/>
                      <a:pt x="36" y="144"/>
                    </a:cubicBezTo>
                    <a:cubicBezTo>
                      <a:pt x="49" y="80"/>
                      <a:pt x="22" y="46"/>
                      <a:pt x="68" y="0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522800">
                <a:off x="4383360" y="1234080"/>
                <a:ext cx="221400" cy="504360"/>
              </a:xfrm>
              <a:custGeom>
                <a:avLst/>
                <a:gdLst/>
                <a:ahLst/>
                <a:rect l="l" t="t" r="r" b="b"/>
                <a:pathLst>
                  <a:path w="379" h="600">
                    <a:moveTo>
                      <a:pt x="96" y="16"/>
                    </a:moveTo>
                    <a:cubicBezTo>
                      <a:pt x="141" y="19"/>
                      <a:pt x="197" y="5"/>
                      <a:pt x="232" y="40"/>
                    </a:cubicBezTo>
                    <a:cubicBezTo>
                      <a:pt x="251" y="59"/>
                      <a:pt x="256" y="88"/>
                      <a:pt x="264" y="112"/>
                    </a:cubicBezTo>
                    <a:cubicBezTo>
                      <a:pt x="267" y="120"/>
                      <a:pt x="272" y="136"/>
                      <a:pt x="272" y="136"/>
                    </a:cubicBezTo>
                    <a:cubicBezTo>
                      <a:pt x="290" y="282"/>
                      <a:pt x="379" y="546"/>
                      <a:pt x="216" y="600"/>
                    </a:cubicBezTo>
                    <a:cubicBezTo>
                      <a:pt x="143" y="593"/>
                      <a:pt x="125" y="596"/>
                      <a:pt x="72" y="560"/>
                    </a:cubicBezTo>
                    <a:cubicBezTo>
                      <a:pt x="57" y="515"/>
                      <a:pt x="16" y="487"/>
                      <a:pt x="0" y="440"/>
                    </a:cubicBezTo>
                    <a:cubicBezTo>
                      <a:pt x="3" y="317"/>
                      <a:pt x="1" y="194"/>
                      <a:pt x="8" y="72"/>
                    </a:cubicBezTo>
                    <a:cubicBezTo>
                      <a:pt x="11" y="16"/>
                      <a:pt x="49" y="0"/>
                      <a:pt x="96" y="16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6522800">
                <a:off x="4431960" y="1289880"/>
                <a:ext cx="163440" cy="446040"/>
              </a:xfrm>
              <a:custGeom>
                <a:avLst/>
                <a:gdLst/>
                <a:ahLst/>
                <a:rect l="l" t="t" r="r" b="b"/>
                <a:pathLst>
                  <a:path w="280" h="532">
                    <a:moveTo>
                      <a:pt x="68" y="0"/>
                    </a:moveTo>
                    <a:cubicBezTo>
                      <a:pt x="144" y="25"/>
                      <a:pt x="99" y="14"/>
                      <a:pt x="204" y="24"/>
                    </a:cubicBezTo>
                    <a:cubicBezTo>
                      <a:pt x="212" y="54"/>
                      <a:pt x="226" y="75"/>
                      <a:pt x="236" y="104"/>
                    </a:cubicBezTo>
                    <a:cubicBezTo>
                      <a:pt x="244" y="183"/>
                      <a:pt x="257" y="259"/>
                      <a:pt x="276" y="336"/>
                    </a:cubicBezTo>
                    <a:cubicBezTo>
                      <a:pt x="273" y="389"/>
                      <a:pt x="280" y="427"/>
                      <a:pt x="252" y="472"/>
                    </a:cubicBezTo>
                    <a:cubicBezTo>
                      <a:pt x="235" y="499"/>
                      <a:pt x="204" y="499"/>
                      <a:pt x="172" y="504"/>
                    </a:cubicBezTo>
                    <a:cubicBezTo>
                      <a:pt x="155" y="507"/>
                      <a:pt x="124" y="520"/>
                      <a:pt x="124" y="520"/>
                    </a:cubicBezTo>
                    <a:cubicBezTo>
                      <a:pt x="78" y="451"/>
                      <a:pt x="139" y="532"/>
                      <a:pt x="84" y="488"/>
                    </a:cubicBezTo>
                    <a:cubicBezTo>
                      <a:pt x="32" y="447"/>
                      <a:pt x="104" y="476"/>
                      <a:pt x="44" y="456"/>
                    </a:cubicBezTo>
                    <a:cubicBezTo>
                      <a:pt x="0" y="325"/>
                      <a:pt x="52" y="489"/>
                      <a:pt x="20" y="360"/>
                    </a:cubicBezTo>
                    <a:cubicBezTo>
                      <a:pt x="16" y="344"/>
                      <a:pt x="28" y="312"/>
                      <a:pt x="28" y="312"/>
                    </a:cubicBezTo>
                    <a:cubicBezTo>
                      <a:pt x="31" y="267"/>
                      <a:pt x="5" y="221"/>
                      <a:pt x="12" y="176"/>
                    </a:cubicBezTo>
                    <a:cubicBezTo>
                      <a:pt x="13" y="166"/>
                      <a:pt x="52" y="168"/>
                      <a:pt x="36" y="144"/>
                    </a:cubicBezTo>
                    <a:cubicBezTo>
                      <a:pt x="49" y="80"/>
                      <a:pt x="22" y="46"/>
                      <a:pt x="68" y="0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09960" y="1703520"/>
                <a:ext cx="425160" cy="4269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33720" y="1742400"/>
                <a:ext cx="374040" cy="32616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24640" y="1203480"/>
                <a:ext cx="425160" cy="426960"/>
              </a:xfrm>
              <a:custGeom>
                <a:avLst/>
                <a:gdLst/>
                <a:ahLst/>
                <a:rect l="l" t="t" r="r" b="b"/>
                <a:pathLst>
                  <a:path w="640" h="545">
                    <a:moveTo>
                      <a:pt x="240" y="10"/>
                    </a:moveTo>
                    <a:cubicBezTo>
                      <a:pt x="182" y="15"/>
                      <a:pt x="134" y="16"/>
                      <a:pt x="80" y="34"/>
                    </a:cubicBezTo>
                    <a:cubicBezTo>
                      <a:pt x="39" y="75"/>
                      <a:pt x="21" y="108"/>
                      <a:pt x="8" y="162"/>
                    </a:cubicBezTo>
                    <a:cubicBezTo>
                      <a:pt x="11" y="242"/>
                      <a:pt x="0" y="324"/>
                      <a:pt x="16" y="402"/>
                    </a:cubicBezTo>
                    <a:cubicBezTo>
                      <a:pt x="23" y="438"/>
                      <a:pt x="109" y="452"/>
                      <a:pt x="136" y="458"/>
                    </a:cubicBezTo>
                    <a:cubicBezTo>
                      <a:pt x="158" y="463"/>
                      <a:pt x="179" y="469"/>
                      <a:pt x="200" y="474"/>
                    </a:cubicBezTo>
                    <a:cubicBezTo>
                      <a:pt x="211" y="477"/>
                      <a:pt x="232" y="482"/>
                      <a:pt x="232" y="482"/>
                    </a:cubicBezTo>
                    <a:cubicBezTo>
                      <a:pt x="300" y="480"/>
                      <a:pt x="542" y="545"/>
                      <a:pt x="616" y="434"/>
                    </a:cubicBezTo>
                    <a:cubicBezTo>
                      <a:pt x="624" y="396"/>
                      <a:pt x="634" y="361"/>
                      <a:pt x="640" y="322"/>
                    </a:cubicBezTo>
                    <a:cubicBezTo>
                      <a:pt x="637" y="258"/>
                      <a:pt x="637" y="194"/>
                      <a:pt x="632" y="130"/>
                    </a:cubicBezTo>
                    <a:cubicBezTo>
                      <a:pt x="631" y="122"/>
                      <a:pt x="630" y="112"/>
                      <a:pt x="624" y="106"/>
                    </a:cubicBezTo>
                    <a:cubicBezTo>
                      <a:pt x="586" y="68"/>
                      <a:pt x="527" y="42"/>
                      <a:pt x="480" y="18"/>
                    </a:cubicBezTo>
                    <a:cubicBezTo>
                      <a:pt x="471" y="14"/>
                      <a:pt x="466" y="2"/>
                      <a:pt x="456" y="2"/>
                    </a:cubicBezTo>
                    <a:cubicBezTo>
                      <a:pt x="384" y="0"/>
                      <a:pt x="312" y="7"/>
                      <a:pt x="240" y="10"/>
                    </a:cubicBezTo>
                    <a:close/>
                  </a:path>
                </a:pathLst>
              </a:custGeom>
              <a:solidFill>
                <a:srgbClr val="99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48400" y="1228680"/>
                <a:ext cx="374040" cy="326160"/>
              </a:xfrm>
              <a:custGeom>
                <a:avLst/>
                <a:gdLst/>
                <a:ahLst/>
                <a:rect l="l" t="t" r="r" b="b"/>
                <a:pathLst>
                  <a:path w="563" h="416">
                    <a:moveTo>
                      <a:pt x="228" y="0"/>
                    </a:moveTo>
                    <a:cubicBezTo>
                      <a:pt x="297" y="3"/>
                      <a:pt x="367" y="3"/>
                      <a:pt x="436" y="8"/>
                    </a:cubicBezTo>
                    <a:cubicBezTo>
                      <a:pt x="482" y="11"/>
                      <a:pt x="441" y="18"/>
                      <a:pt x="476" y="40"/>
                    </a:cubicBezTo>
                    <a:cubicBezTo>
                      <a:pt x="490" y="49"/>
                      <a:pt x="524" y="56"/>
                      <a:pt x="524" y="56"/>
                    </a:cubicBezTo>
                    <a:cubicBezTo>
                      <a:pt x="529" y="64"/>
                      <a:pt x="536" y="71"/>
                      <a:pt x="540" y="80"/>
                    </a:cubicBezTo>
                    <a:cubicBezTo>
                      <a:pt x="547" y="95"/>
                      <a:pt x="556" y="128"/>
                      <a:pt x="556" y="128"/>
                    </a:cubicBezTo>
                    <a:cubicBezTo>
                      <a:pt x="553" y="203"/>
                      <a:pt x="563" y="279"/>
                      <a:pt x="548" y="352"/>
                    </a:cubicBezTo>
                    <a:cubicBezTo>
                      <a:pt x="545" y="365"/>
                      <a:pt x="521" y="356"/>
                      <a:pt x="508" y="360"/>
                    </a:cubicBezTo>
                    <a:cubicBezTo>
                      <a:pt x="460" y="373"/>
                      <a:pt x="397" y="388"/>
                      <a:pt x="356" y="416"/>
                    </a:cubicBezTo>
                    <a:cubicBezTo>
                      <a:pt x="311" y="413"/>
                      <a:pt x="265" y="413"/>
                      <a:pt x="220" y="408"/>
                    </a:cubicBezTo>
                    <a:cubicBezTo>
                      <a:pt x="172" y="403"/>
                      <a:pt x="137" y="359"/>
                      <a:pt x="92" y="344"/>
                    </a:cubicBezTo>
                    <a:cubicBezTo>
                      <a:pt x="55" y="289"/>
                      <a:pt x="78" y="302"/>
                      <a:pt x="36" y="288"/>
                    </a:cubicBezTo>
                    <a:cubicBezTo>
                      <a:pt x="9" y="207"/>
                      <a:pt x="0" y="111"/>
                      <a:pt x="92" y="80"/>
                    </a:cubicBezTo>
                    <a:cubicBezTo>
                      <a:pt x="101" y="53"/>
                      <a:pt x="107" y="29"/>
                      <a:pt x="140" y="24"/>
                    </a:cubicBezTo>
                    <a:cubicBezTo>
                      <a:pt x="233" y="11"/>
                      <a:pt x="228" y="46"/>
                      <a:pt x="228" y="0"/>
                    </a:cubicBez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4038480" y="921960"/>
            <a:ext cx="1912320" cy="1307520"/>
            <a:chOff x="4038480" y="921960"/>
            <a:chExt cx="1912320" cy="1307520"/>
          </a:xfrm>
        </p:grpSpPr>
        <p:sp>
          <p:nvSpPr>
            <p:cNvPr id="439" name=""/>
            <p:cNvSpPr/>
            <p:nvPr/>
          </p:nvSpPr>
          <p:spPr>
            <a:xfrm rot="20051400">
              <a:off x="4800600" y="1142640"/>
              <a:ext cx="1066680" cy="228600"/>
            </a:xfrm>
            <a:custGeom>
              <a:avLst/>
              <a:gdLst>
                <a:gd name="textAreaLeft" fmla="*/ 133200 w 1066680"/>
                <a:gd name="textAreaRight" fmla="*/ 933480 w 10666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38480" y="1523880"/>
              <a:ext cx="1067040" cy="228600"/>
            </a:xfrm>
            <a:custGeom>
              <a:avLst/>
              <a:gdLst>
                <a:gd name="textAreaLeft" fmla="*/ 133200 w 1067040"/>
                <a:gd name="textAreaRight" fmla="*/ 933840 w 10670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173000">
              <a:off x="4876560" y="1828800"/>
              <a:ext cx="1066680" cy="228600"/>
            </a:xfrm>
            <a:custGeom>
              <a:avLst/>
              <a:gdLst>
                <a:gd name="textAreaLeft" fmla="*/ 133200 w 1066680"/>
                <a:gd name="textAreaRight" fmla="*/ 933480 w 10666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949400" y="1550880"/>
            <a:ext cx="1708200" cy="204840"/>
          </a:xfrm>
          <a:custGeom>
            <a:avLst/>
            <a:gdLst/>
            <a:ahLst/>
            <a:rect l="l" t="t" r="r" b="b"/>
            <a:pathLst>
              <a:path w="1076" h="129">
                <a:moveTo>
                  <a:pt x="0" y="62"/>
                </a:moveTo>
                <a:cubicBezTo>
                  <a:pt x="64" y="18"/>
                  <a:pt x="35" y="31"/>
                  <a:pt x="85" y="14"/>
                </a:cubicBezTo>
                <a:cubicBezTo>
                  <a:pt x="281" y="19"/>
                  <a:pt x="410" y="0"/>
                  <a:pt x="576" y="52"/>
                </a:cubicBezTo>
                <a:cubicBezTo>
                  <a:pt x="689" y="129"/>
                  <a:pt x="930" y="81"/>
                  <a:pt x="1076" y="8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52480" y="1523880"/>
            <a:ext cx="228600" cy="2819520"/>
          </a:xfrm>
          <a:prstGeom prst="upArrow">
            <a:avLst>
              <a:gd name="adj1" fmla="val 50000"/>
              <a:gd name="adj2" fmla="val 30834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4343400"/>
            <a:ext cx="3581280" cy="304920"/>
          </a:xfrm>
          <a:custGeom>
            <a:avLst/>
            <a:gdLst/>
            <a:ahLst/>
            <a:rect l="l" t="t" r="r" b="b"/>
            <a:pathLst>
              <a:path w="2163" h="196">
                <a:moveTo>
                  <a:pt x="0" y="76"/>
                </a:moveTo>
                <a:cubicBezTo>
                  <a:pt x="135" y="9"/>
                  <a:pt x="293" y="82"/>
                  <a:pt x="435" y="38"/>
                </a:cubicBezTo>
                <a:cubicBezTo>
                  <a:pt x="804" y="42"/>
                  <a:pt x="1091" y="20"/>
                  <a:pt x="1426" y="66"/>
                </a:cubicBezTo>
                <a:cubicBezTo>
                  <a:pt x="1453" y="66"/>
                  <a:pt x="2060" y="196"/>
                  <a:pt x="21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3320" y="4062240"/>
            <a:ext cx="3417840" cy="320760"/>
          </a:xfrm>
          <a:custGeom>
            <a:avLst/>
            <a:gdLst/>
            <a:ahLst/>
            <a:rect l="l" t="t" r="r" b="b"/>
            <a:pathLst>
              <a:path w="2153" h="202">
                <a:moveTo>
                  <a:pt x="2153" y="94"/>
                </a:moveTo>
                <a:cubicBezTo>
                  <a:pt x="2131" y="91"/>
                  <a:pt x="2022" y="122"/>
                  <a:pt x="2002" y="113"/>
                </a:cubicBezTo>
                <a:cubicBezTo>
                  <a:pt x="1992" y="108"/>
                  <a:pt x="1992" y="92"/>
                  <a:pt x="1983" y="85"/>
                </a:cubicBezTo>
                <a:cubicBezTo>
                  <a:pt x="1975" y="79"/>
                  <a:pt x="1964" y="78"/>
                  <a:pt x="1955" y="75"/>
                </a:cubicBezTo>
                <a:cubicBezTo>
                  <a:pt x="1950" y="62"/>
                  <a:pt x="1940" y="27"/>
                  <a:pt x="1927" y="19"/>
                </a:cubicBezTo>
                <a:cubicBezTo>
                  <a:pt x="1910" y="8"/>
                  <a:pt x="1870" y="0"/>
                  <a:pt x="1870" y="0"/>
                </a:cubicBezTo>
                <a:cubicBezTo>
                  <a:pt x="1764" y="8"/>
                  <a:pt x="1675" y="30"/>
                  <a:pt x="1568" y="38"/>
                </a:cubicBezTo>
                <a:cubicBezTo>
                  <a:pt x="1558" y="41"/>
                  <a:pt x="1549" y="45"/>
                  <a:pt x="1539" y="47"/>
                </a:cubicBezTo>
                <a:cubicBezTo>
                  <a:pt x="1508" y="52"/>
                  <a:pt x="1476" y="50"/>
                  <a:pt x="1445" y="57"/>
                </a:cubicBezTo>
                <a:cubicBezTo>
                  <a:pt x="1418" y="63"/>
                  <a:pt x="1368" y="99"/>
                  <a:pt x="1332" y="104"/>
                </a:cubicBezTo>
                <a:cubicBezTo>
                  <a:pt x="1301" y="109"/>
                  <a:pt x="1269" y="110"/>
                  <a:pt x="1237" y="113"/>
                </a:cubicBezTo>
                <a:cubicBezTo>
                  <a:pt x="1159" y="106"/>
                  <a:pt x="1133" y="47"/>
                  <a:pt x="1048" y="38"/>
                </a:cubicBezTo>
                <a:cubicBezTo>
                  <a:pt x="973" y="32"/>
                  <a:pt x="880" y="69"/>
                  <a:pt x="822" y="94"/>
                </a:cubicBezTo>
                <a:cubicBezTo>
                  <a:pt x="764" y="119"/>
                  <a:pt x="767" y="183"/>
                  <a:pt x="699" y="189"/>
                </a:cubicBezTo>
                <a:cubicBezTo>
                  <a:pt x="592" y="186"/>
                  <a:pt x="523" y="141"/>
                  <a:pt x="416" y="132"/>
                </a:cubicBezTo>
                <a:cubicBezTo>
                  <a:pt x="388" y="130"/>
                  <a:pt x="350" y="142"/>
                  <a:pt x="321" y="132"/>
                </a:cubicBezTo>
                <a:cubicBezTo>
                  <a:pt x="255" y="135"/>
                  <a:pt x="189" y="135"/>
                  <a:pt x="123" y="142"/>
                </a:cubicBezTo>
                <a:cubicBezTo>
                  <a:pt x="103" y="144"/>
                  <a:pt x="66" y="160"/>
                  <a:pt x="66" y="160"/>
                </a:cubicBezTo>
                <a:cubicBezTo>
                  <a:pt x="38" y="202"/>
                  <a:pt x="59" y="189"/>
                  <a:pt x="0" y="189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10476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evaporates from the spongy mesophyll cells and diffuses into the atmosp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67280" y="6094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22860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wer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 the leaf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2743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moves from down the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26654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is pulled up xylem vess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280" y="838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wer pressure/tension at top of xyl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952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hesive forces between water molecules prevent water column bre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3962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 moves across root from soil down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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rad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62720" y="4800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a the apoplast and symplast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, in terms of water potential how water moves from the soil to the endodermis in a ro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5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why, in summer, the diameter of a branch is smaller at noon than at midnight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4 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ain the root pressure hypothesis for water movement in the xylem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3 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 two limitations of this hypothesis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mic Sans MS"/>
                <a:hlinkClick r:id="rId4" action="ppaction://hlinksldjump"/>
              </a:rPr>
              <a:t>2mark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2743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5334120"/>
            <a:ext cx="2819160" cy="9144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n the marks above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your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38080" y="5029200"/>
            <a:ext cx="1752840" cy="1219320"/>
          </a:xfrm>
          <a:prstGeom prst="smileyFace">
            <a:avLst>
              <a:gd name="adj" fmla="val 928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5" action="ppaction://hlinksldjump"/>
              </a:rPr>
              <a:t>click here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is absorbed from the soil by the root hai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osmosis down the water potential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ater potential is higher in the epidermal cells than in the xylem in the root cen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from cell to cell through the cytoplasm down the water potential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also moves through the fibres of the cell wall and intercellular sp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must go through the endodermal cells due to the Casparian str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5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erature higher at noon so transpiration rate hig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water evaporates from the surface of the mesophyll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ucing the the water potent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moves from the xylem in the leaves into the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 tension pulling the water up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pulls the xylem vessels in so reducing the diameter of the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four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 pressure is a hydrostatic pressure pushing water up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eral ions are actively transported out of the endodermal cells into the xylem vess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ering the water potential in the xy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 water moves in from the surrounding cells by osmosis / down the water potential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ising the hydrostatic pres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three po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2895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Q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6095880" y="5867280"/>
            <a:ext cx="2286000" cy="6098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Back to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5345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essure measured is not enough to get water to the top of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find root pressure in sp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es on the use of the plant’s energy (ATP) for active trans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y tw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w think of some synoptic links and make a li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1339560" y="28242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www.biologymad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0574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y out this web site to review transport of water in pl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4267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agram of transverse root sec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37240" y="1139760"/>
            <a:ext cx="3910320" cy="3609720"/>
            <a:chOff x="1137240" y="1139760"/>
            <a:chExt cx="3910320" cy="3609720"/>
          </a:xfrm>
        </p:grpSpPr>
        <p:sp>
          <p:nvSpPr>
            <p:cNvPr id="59" name=""/>
            <p:cNvSpPr/>
            <p:nvPr/>
          </p:nvSpPr>
          <p:spPr>
            <a:xfrm>
              <a:off x="1453680" y="1400400"/>
              <a:ext cx="3368160" cy="33321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8280" y="1554120"/>
              <a:ext cx="103320" cy="228240"/>
            </a:xfrm>
            <a:custGeom>
              <a:avLst/>
              <a:gdLst/>
              <a:ahLst/>
              <a:rect l="l" t="t" r="r" b="b"/>
              <a:pathLst>
                <a:path w="178" h="262">
                  <a:moveTo>
                    <a:pt x="0" y="216"/>
                  </a:moveTo>
                  <a:cubicBezTo>
                    <a:pt x="9" y="190"/>
                    <a:pt x="1" y="159"/>
                    <a:pt x="16" y="136"/>
                  </a:cubicBezTo>
                  <a:cubicBezTo>
                    <a:pt x="26" y="120"/>
                    <a:pt x="64" y="104"/>
                    <a:pt x="64" y="104"/>
                  </a:cubicBezTo>
                  <a:cubicBezTo>
                    <a:pt x="79" y="81"/>
                    <a:pt x="91" y="41"/>
                    <a:pt x="112" y="24"/>
                  </a:cubicBezTo>
                  <a:cubicBezTo>
                    <a:pt x="126" y="13"/>
                    <a:pt x="145" y="10"/>
                    <a:pt x="160" y="0"/>
                  </a:cubicBezTo>
                  <a:cubicBezTo>
                    <a:pt x="167" y="21"/>
                    <a:pt x="178" y="41"/>
                    <a:pt x="160" y="64"/>
                  </a:cubicBezTo>
                  <a:cubicBezTo>
                    <a:pt x="148" y="79"/>
                    <a:pt x="112" y="96"/>
                    <a:pt x="112" y="96"/>
                  </a:cubicBezTo>
                  <a:cubicBezTo>
                    <a:pt x="76" y="150"/>
                    <a:pt x="116" y="82"/>
                    <a:pt x="88" y="176"/>
                  </a:cubicBezTo>
                  <a:cubicBezTo>
                    <a:pt x="85" y="185"/>
                    <a:pt x="76" y="191"/>
                    <a:pt x="72" y="200"/>
                  </a:cubicBezTo>
                  <a:cubicBezTo>
                    <a:pt x="44" y="262"/>
                    <a:pt x="70" y="234"/>
                    <a:pt x="48" y="256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18160" y="2425680"/>
              <a:ext cx="259200" cy="145080"/>
            </a:xfrm>
            <a:custGeom>
              <a:avLst/>
              <a:gdLst/>
              <a:ahLst/>
              <a:rect l="l" t="t" r="r" b="b"/>
              <a:pathLst>
                <a:path w="367" h="219">
                  <a:moveTo>
                    <a:pt x="0" y="139"/>
                  </a:moveTo>
                  <a:cubicBezTo>
                    <a:pt x="21" y="136"/>
                    <a:pt x="44" y="138"/>
                    <a:pt x="64" y="131"/>
                  </a:cubicBezTo>
                  <a:cubicBezTo>
                    <a:pt x="82" y="125"/>
                    <a:pt x="94" y="105"/>
                    <a:pt x="112" y="99"/>
                  </a:cubicBezTo>
                  <a:cubicBezTo>
                    <a:pt x="128" y="94"/>
                    <a:pt x="144" y="88"/>
                    <a:pt x="160" y="83"/>
                  </a:cubicBezTo>
                  <a:cubicBezTo>
                    <a:pt x="168" y="80"/>
                    <a:pt x="184" y="75"/>
                    <a:pt x="184" y="75"/>
                  </a:cubicBezTo>
                  <a:cubicBezTo>
                    <a:pt x="221" y="38"/>
                    <a:pt x="268" y="13"/>
                    <a:pt x="320" y="3"/>
                  </a:cubicBezTo>
                  <a:cubicBezTo>
                    <a:pt x="333" y="6"/>
                    <a:pt x="352" y="0"/>
                    <a:pt x="360" y="11"/>
                  </a:cubicBezTo>
                  <a:cubicBezTo>
                    <a:pt x="367" y="20"/>
                    <a:pt x="358" y="34"/>
                    <a:pt x="352" y="43"/>
                  </a:cubicBezTo>
                  <a:cubicBezTo>
                    <a:pt x="335" y="68"/>
                    <a:pt x="281" y="70"/>
                    <a:pt x="256" y="75"/>
                  </a:cubicBezTo>
                  <a:cubicBezTo>
                    <a:pt x="229" y="93"/>
                    <a:pt x="222" y="113"/>
                    <a:pt x="192" y="123"/>
                  </a:cubicBezTo>
                  <a:cubicBezTo>
                    <a:pt x="158" y="174"/>
                    <a:pt x="140" y="164"/>
                    <a:pt x="72" y="171"/>
                  </a:cubicBezTo>
                  <a:cubicBezTo>
                    <a:pt x="50" y="185"/>
                    <a:pt x="34" y="201"/>
                    <a:pt x="16" y="219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08400">
              <a:off x="4769640" y="3194640"/>
              <a:ext cx="258840" cy="145080"/>
            </a:xfrm>
            <a:custGeom>
              <a:avLst/>
              <a:gdLst/>
              <a:ahLst/>
              <a:rect l="l" t="t" r="r" b="b"/>
              <a:pathLst>
                <a:path w="367" h="219">
                  <a:moveTo>
                    <a:pt x="0" y="139"/>
                  </a:moveTo>
                  <a:cubicBezTo>
                    <a:pt x="21" y="136"/>
                    <a:pt x="44" y="138"/>
                    <a:pt x="64" y="131"/>
                  </a:cubicBezTo>
                  <a:cubicBezTo>
                    <a:pt x="82" y="125"/>
                    <a:pt x="94" y="105"/>
                    <a:pt x="112" y="99"/>
                  </a:cubicBezTo>
                  <a:cubicBezTo>
                    <a:pt x="128" y="94"/>
                    <a:pt x="144" y="88"/>
                    <a:pt x="160" y="83"/>
                  </a:cubicBezTo>
                  <a:cubicBezTo>
                    <a:pt x="168" y="80"/>
                    <a:pt x="184" y="75"/>
                    <a:pt x="184" y="75"/>
                  </a:cubicBezTo>
                  <a:cubicBezTo>
                    <a:pt x="221" y="38"/>
                    <a:pt x="268" y="13"/>
                    <a:pt x="320" y="3"/>
                  </a:cubicBezTo>
                  <a:cubicBezTo>
                    <a:pt x="333" y="6"/>
                    <a:pt x="352" y="0"/>
                    <a:pt x="360" y="11"/>
                  </a:cubicBezTo>
                  <a:cubicBezTo>
                    <a:pt x="367" y="20"/>
                    <a:pt x="358" y="34"/>
                    <a:pt x="352" y="43"/>
                  </a:cubicBezTo>
                  <a:cubicBezTo>
                    <a:pt x="335" y="68"/>
                    <a:pt x="281" y="70"/>
                    <a:pt x="256" y="75"/>
                  </a:cubicBezTo>
                  <a:cubicBezTo>
                    <a:pt x="229" y="93"/>
                    <a:pt x="222" y="113"/>
                    <a:pt x="192" y="123"/>
                  </a:cubicBezTo>
                  <a:cubicBezTo>
                    <a:pt x="158" y="174"/>
                    <a:pt x="140" y="164"/>
                    <a:pt x="72" y="171"/>
                  </a:cubicBezTo>
                  <a:cubicBezTo>
                    <a:pt x="50" y="185"/>
                    <a:pt x="34" y="201"/>
                    <a:pt x="16" y="219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1505600">
              <a:off x="1228680" y="3347640"/>
              <a:ext cx="258840" cy="145080"/>
            </a:xfrm>
            <a:custGeom>
              <a:avLst/>
              <a:gdLst/>
              <a:ahLst/>
              <a:rect l="l" t="t" r="r" b="b"/>
              <a:pathLst>
                <a:path w="367" h="219">
                  <a:moveTo>
                    <a:pt x="0" y="139"/>
                  </a:moveTo>
                  <a:cubicBezTo>
                    <a:pt x="21" y="136"/>
                    <a:pt x="44" y="138"/>
                    <a:pt x="64" y="131"/>
                  </a:cubicBezTo>
                  <a:cubicBezTo>
                    <a:pt x="82" y="125"/>
                    <a:pt x="94" y="105"/>
                    <a:pt x="112" y="99"/>
                  </a:cubicBezTo>
                  <a:cubicBezTo>
                    <a:pt x="128" y="94"/>
                    <a:pt x="144" y="88"/>
                    <a:pt x="160" y="83"/>
                  </a:cubicBezTo>
                  <a:cubicBezTo>
                    <a:pt x="168" y="80"/>
                    <a:pt x="184" y="75"/>
                    <a:pt x="184" y="75"/>
                  </a:cubicBezTo>
                  <a:cubicBezTo>
                    <a:pt x="221" y="38"/>
                    <a:pt x="268" y="13"/>
                    <a:pt x="320" y="3"/>
                  </a:cubicBezTo>
                  <a:cubicBezTo>
                    <a:pt x="333" y="6"/>
                    <a:pt x="352" y="0"/>
                    <a:pt x="360" y="11"/>
                  </a:cubicBezTo>
                  <a:cubicBezTo>
                    <a:pt x="367" y="20"/>
                    <a:pt x="358" y="34"/>
                    <a:pt x="352" y="43"/>
                  </a:cubicBezTo>
                  <a:cubicBezTo>
                    <a:pt x="335" y="68"/>
                    <a:pt x="281" y="70"/>
                    <a:pt x="256" y="75"/>
                  </a:cubicBezTo>
                  <a:cubicBezTo>
                    <a:pt x="229" y="93"/>
                    <a:pt x="222" y="113"/>
                    <a:pt x="192" y="123"/>
                  </a:cubicBezTo>
                  <a:cubicBezTo>
                    <a:pt x="158" y="174"/>
                    <a:pt x="140" y="164"/>
                    <a:pt x="72" y="171"/>
                  </a:cubicBezTo>
                  <a:cubicBezTo>
                    <a:pt x="50" y="185"/>
                    <a:pt x="34" y="201"/>
                    <a:pt x="16" y="219"/>
                  </a:cubicBezTo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37240" y="4563720"/>
              <a:ext cx="223200" cy="185760"/>
            </a:xfrm>
            <a:custGeom>
              <a:avLst/>
              <a:gdLst/>
              <a:ahLst/>
              <a:rect l="l" t="t" r="r" b="b"/>
              <a:pathLst>
                <a:path w="264" h="161">
                  <a:moveTo>
                    <a:pt x="1" y="14"/>
                  </a:moveTo>
                  <a:cubicBezTo>
                    <a:pt x="31" y="58"/>
                    <a:pt x="0" y="23"/>
                    <a:pt x="41" y="46"/>
                  </a:cubicBezTo>
                  <a:cubicBezTo>
                    <a:pt x="58" y="55"/>
                    <a:pt x="70" y="74"/>
                    <a:pt x="89" y="78"/>
                  </a:cubicBezTo>
                  <a:cubicBezTo>
                    <a:pt x="137" y="88"/>
                    <a:pt x="116" y="82"/>
                    <a:pt x="153" y="94"/>
                  </a:cubicBezTo>
                  <a:cubicBezTo>
                    <a:pt x="190" y="150"/>
                    <a:pt x="169" y="131"/>
                    <a:pt x="209" y="158"/>
                  </a:cubicBezTo>
                  <a:cubicBezTo>
                    <a:pt x="225" y="155"/>
                    <a:pt x="246" y="161"/>
                    <a:pt x="257" y="150"/>
                  </a:cubicBezTo>
                  <a:cubicBezTo>
                    <a:pt x="264" y="143"/>
                    <a:pt x="242" y="138"/>
                    <a:pt x="233" y="134"/>
                  </a:cubicBezTo>
                  <a:cubicBezTo>
                    <a:pt x="218" y="127"/>
                    <a:pt x="185" y="118"/>
                    <a:pt x="185" y="118"/>
                  </a:cubicBezTo>
                  <a:cubicBezTo>
                    <a:pt x="164" y="86"/>
                    <a:pt x="109" y="62"/>
                    <a:pt x="73" y="46"/>
                  </a:cubicBezTo>
                  <a:cubicBezTo>
                    <a:pt x="58" y="39"/>
                    <a:pt x="25" y="30"/>
                    <a:pt x="25" y="30"/>
                  </a:cubicBezTo>
                  <a:cubicBezTo>
                    <a:pt x="15" y="0"/>
                    <a:pt x="25" y="2"/>
                    <a:pt x="1" y="1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7180800">
              <a:off x="4711320" y="3756600"/>
              <a:ext cx="98280" cy="39708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7078400">
              <a:off x="1292400" y="2377800"/>
              <a:ext cx="98280" cy="39708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2978600">
              <a:off x="1861560" y="4226040"/>
              <a:ext cx="99360" cy="39276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8096000">
              <a:off x="1965600" y="1404360"/>
              <a:ext cx="97920" cy="39708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1440" y="1485720"/>
              <a:ext cx="3212280" cy="3178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33400">
              <a:off x="2954160" y="1143000"/>
              <a:ext cx="110160" cy="347760"/>
            </a:xfrm>
            <a:custGeom>
              <a:avLst/>
              <a:gdLst/>
              <a:ahLst/>
              <a:rect l="l" t="t" r="r" b="b"/>
              <a:pathLst>
                <a:path w="223" h="698">
                  <a:moveTo>
                    <a:pt x="27" y="674"/>
                  </a:moveTo>
                  <a:cubicBezTo>
                    <a:pt x="54" y="593"/>
                    <a:pt x="0" y="450"/>
                    <a:pt x="83" y="394"/>
                  </a:cubicBezTo>
                  <a:cubicBezTo>
                    <a:pt x="107" y="323"/>
                    <a:pt x="99" y="249"/>
                    <a:pt x="123" y="178"/>
                  </a:cubicBezTo>
                  <a:cubicBezTo>
                    <a:pt x="126" y="143"/>
                    <a:pt x="122" y="108"/>
                    <a:pt x="131" y="74"/>
                  </a:cubicBezTo>
                  <a:cubicBezTo>
                    <a:pt x="133" y="65"/>
                    <a:pt x="149" y="65"/>
                    <a:pt x="155" y="58"/>
                  </a:cubicBezTo>
                  <a:cubicBezTo>
                    <a:pt x="169" y="41"/>
                    <a:pt x="175" y="20"/>
                    <a:pt x="187" y="2"/>
                  </a:cubicBezTo>
                  <a:cubicBezTo>
                    <a:pt x="198" y="5"/>
                    <a:pt x="214" y="0"/>
                    <a:pt x="219" y="10"/>
                  </a:cubicBezTo>
                  <a:cubicBezTo>
                    <a:pt x="223" y="19"/>
                    <a:pt x="207" y="25"/>
                    <a:pt x="203" y="34"/>
                  </a:cubicBezTo>
                  <a:cubicBezTo>
                    <a:pt x="188" y="65"/>
                    <a:pt x="185" y="78"/>
                    <a:pt x="155" y="98"/>
                  </a:cubicBezTo>
                  <a:cubicBezTo>
                    <a:pt x="135" y="274"/>
                    <a:pt x="159" y="44"/>
                    <a:pt x="139" y="378"/>
                  </a:cubicBezTo>
                  <a:cubicBezTo>
                    <a:pt x="135" y="443"/>
                    <a:pt x="135" y="429"/>
                    <a:pt x="99" y="482"/>
                  </a:cubicBezTo>
                  <a:cubicBezTo>
                    <a:pt x="94" y="490"/>
                    <a:pt x="83" y="506"/>
                    <a:pt x="83" y="506"/>
                  </a:cubicBezTo>
                  <a:cubicBezTo>
                    <a:pt x="80" y="551"/>
                    <a:pt x="79" y="597"/>
                    <a:pt x="75" y="642"/>
                  </a:cubicBezTo>
                  <a:cubicBezTo>
                    <a:pt x="74" y="658"/>
                    <a:pt x="78" y="679"/>
                    <a:pt x="67" y="690"/>
                  </a:cubicBezTo>
                  <a:cubicBezTo>
                    <a:pt x="59" y="698"/>
                    <a:pt x="46" y="685"/>
                    <a:pt x="35" y="682"/>
                  </a:cubicBezTo>
                  <a:cubicBezTo>
                    <a:pt x="25" y="653"/>
                    <a:pt x="27" y="650"/>
                    <a:pt x="27" y="674"/>
                  </a:cubicBez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90120" y="2374200"/>
              <a:ext cx="1347120" cy="1333080"/>
            </a:xfrm>
            <a:prstGeom prst="ellipse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41960" y="2425680"/>
              <a:ext cx="1243440" cy="12301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3800" y="2476800"/>
              <a:ext cx="1139760" cy="11275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3800" y="2476800"/>
              <a:ext cx="1136520" cy="1121400"/>
            </a:xfrm>
            <a:custGeom>
              <a:avLst/>
              <a:gdLst/>
              <a:ahLst/>
              <a:rect l="l" t="t" r="r" b="b"/>
              <a:pathLst>
                <a:path w="1053" h="1050">
                  <a:moveTo>
                    <a:pt x="428" y="46"/>
                  </a:moveTo>
                  <a:cubicBezTo>
                    <a:pt x="503" y="22"/>
                    <a:pt x="607" y="0"/>
                    <a:pt x="656" y="69"/>
                  </a:cubicBezTo>
                  <a:cubicBezTo>
                    <a:pt x="658" y="102"/>
                    <a:pt x="658" y="135"/>
                    <a:pt x="663" y="167"/>
                  </a:cubicBezTo>
                  <a:cubicBezTo>
                    <a:pt x="675" y="236"/>
                    <a:pt x="733" y="259"/>
                    <a:pt x="789" y="295"/>
                  </a:cubicBezTo>
                  <a:cubicBezTo>
                    <a:pt x="817" y="312"/>
                    <a:pt x="872" y="321"/>
                    <a:pt x="907" y="332"/>
                  </a:cubicBezTo>
                  <a:cubicBezTo>
                    <a:pt x="922" y="337"/>
                    <a:pt x="938" y="343"/>
                    <a:pt x="954" y="347"/>
                  </a:cubicBezTo>
                  <a:cubicBezTo>
                    <a:pt x="962" y="350"/>
                    <a:pt x="977" y="355"/>
                    <a:pt x="977" y="355"/>
                  </a:cubicBezTo>
                  <a:cubicBezTo>
                    <a:pt x="982" y="360"/>
                    <a:pt x="1017" y="390"/>
                    <a:pt x="1017" y="400"/>
                  </a:cubicBezTo>
                  <a:cubicBezTo>
                    <a:pt x="1026" y="663"/>
                    <a:pt x="1053" y="639"/>
                    <a:pt x="836" y="664"/>
                  </a:cubicBezTo>
                  <a:cubicBezTo>
                    <a:pt x="704" y="706"/>
                    <a:pt x="741" y="824"/>
                    <a:pt x="679" y="912"/>
                  </a:cubicBezTo>
                  <a:cubicBezTo>
                    <a:pt x="629" y="966"/>
                    <a:pt x="579" y="1030"/>
                    <a:pt x="528" y="1040"/>
                  </a:cubicBezTo>
                  <a:cubicBezTo>
                    <a:pt x="477" y="1050"/>
                    <a:pt x="407" y="992"/>
                    <a:pt x="373" y="972"/>
                  </a:cubicBezTo>
                  <a:cubicBezTo>
                    <a:pt x="342" y="962"/>
                    <a:pt x="336" y="949"/>
                    <a:pt x="326" y="920"/>
                  </a:cubicBezTo>
                  <a:cubicBezTo>
                    <a:pt x="322" y="823"/>
                    <a:pt x="363" y="745"/>
                    <a:pt x="271" y="716"/>
                  </a:cubicBezTo>
                  <a:cubicBezTo>
                    <a:pt x="267" y="711"/>
                    <a:pt x="220" y="658"/>
                    <a:pt x="216" y="656"/>
                  </a:cubicBezTo>
                  <a:cubicBezTo>
                    <a:pt x="202" y="648"/>
                    <a:pt x="183" y="649"/>
                    <a:pt x="169" y="641"/>
                  </a:cubicBezTo>
                  <a:cubicBezTo>
                    <a:pt x="161" y="636"/>
                    <a:pt x="154" y="628"/>
                    <a:pt x="145" y="626"/>
                  </a:cubicBezTo>
                  <a:cubicBezTo>
                    <a:pt x="115" y="620"/>
                    <a:pt x="82" y="621"/>
                    <a:pt x="51" y="618"/>
                  </a:cubicBezTo>
                  <a:cubicBezTo>
                    <a:pt x="42" y="594"/>
                    <a:pt x="12" y="551"/>
                    <a:pt x="12" y="551"/>
                  </a:cubicBezTo>
                  <a:cubicBezTo>
                    <a:pt x="25" y="503"/>
                    <a:pt x="0" y="433"/>
                    <a:pt x="43" y="400"/>
                  </a:cubicBezTo>
                  <a:cubicBezTo>
                    <a:pt x="50" y="395"/>
                    <a:pt x="60" y="396"/>
                    <a:pt x="67" y="392"/>
                  </a:cubicBezTo>
                  <a:cubicBezTo>
                    <a:pt x="158" y="344"/>
                    <a:pt x="70" y="376"/>
                    <a:pt x="161" y="347"/>
                  </a:cubicBezTo>
                  <a:cubicBezTo>
                    <a:pt x="177" y="343"/>
                    <a:pt x="208" y="332"/>
                    <a:pt x="208" y="332"/>
                  </a:cubicBezTo>
                  <a:cubicBezTo>
                    <a:pt x="233" y="296"/>
                    <a:pt x="288" y="276"/>
                    <a:pt x="326" y="249"/>
                  </a:cubicBezTo>
                  <a:cubicBezTo>
                    <a:pt x="342" y="239"/>
                    <a:pt x="373" y="219"/>
                    <a:pt x="373" y="219"/>
                  </a:cubicBezTo>
                  <a:cubicBezTo>
                    <a:pt x="382" y="195"/>
                    <a:pt x="412" y="152"/>
                    <a:pt x="412" y="152"/>
                  </a:cubicBezTo>
                  <a:cubicBezTo>
                    <a:pt x="415" y="129"/>
                    <a:pt x="414" y="105"/>
                    <a:pt x="420" y="84"/>
                  </a:cubicBezTo>
                  <a:cubicBezTo>
                    <a:pt x="422" y="75"/>
                    <a:pt x="434" y="70"/>
                    <a:pt x="436" y="61"/>
                  </a:cubicBezTo>
                  <a:cubicBezTo>
                    <a:pt x="437" y="56"/>
                    <a:pt x="431" y="51"/>
                    <a:pt x="428" y="46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410080" y="1143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pidermis with root h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73080"/>
            <a:ext cx="32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604960"/>
            <a:ext cx="32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doder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0080" y="4068720"/>
            <a:ext cx="32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4800600"/>
            <a:ext cx="32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33684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i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343040" y="1371600"/>
            <a:ext cx="1066680" cy="6094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419360" y="2133720"/>
            <a:ext cx="1066680" cy="2286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22840" y="2819520"/>
            <a:ext cx="1676160" cy="1522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708360" y="3250800"/>
            <a:ext cx="1752480" cy="304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124080" y="3048120"/>
            <a:ext cx="2362320" cy="12189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428640" y="3428640"/>
            <a:ext cx="2057400" cy="15238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  is transported across the root by two rou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3124080"/>
            <a:ext cx="4376880" cy="2824200"/>
            <a:chOff x="1828800" y="3124080"/>
            <a:chExt cx="4376880" cy="2824200"/>
          </a:xfrm>
        </p:grpSpPr>
        <p:grpSp>
          <p:nvGrpSpPr>
            <p:cNvPr id="89" name=""/>
            <p:cNvGrpSpPr/>
            <p:nvPr/>
          </p:nvGrpSpPr>
          <p:grpSpPr>
            <a:xfrm>
              <a:off x="1828800" y="3124080"/>
              <a:ext cx="1447920" cy="2819520"/>
              <a:chOff x="1828800" y="3124080"/>
              <a:chExt cx="1447920" cy="2819520"/>
            </a:xfrm>
          </p:grpSpPr>
          <p:sp>
            <p:nvSpPr>
              <p:cNvPr id="90" name=""/>
              <p:cNvSpPr/>
              <p:nvPr/>
            </p:nvSpPr>
            <p:spPr>
              <a:xfrm>
                <a:off x="1828800" y="3124080"/>
                <a:ext cx="1447920" cy="2819520"/>
              </a:xfrm>
              <a:custGeom>
                <a:avLst/>
                <a:gdLst>
                  <a:gd name="textAreaLeft" fmla="*/ 70560 w 1447920"/>
                  <a:gd name="textAreaRight" fmla="*/ 1377360 w 1447920"/>
                  <a:gd name="textAreaTop" fmla="*/ 70560 h 2819520"/>
                  <a:gd name="textAreaBottom" fmla="*/ 2748960 h 2819520"/>
                </a:gdLst>
                <a:ahLst/>
                <a:rect l="textAreaLeft" t="textAreaTop" r="textAreaRight" b="textAreaBottom"/>
                <a:pathLst>
                  <a:path w="21600" h="42056">
                    <a:moveTo>
                      <a:pt x="3600" y="0"/>
                    </a:moveTo>
                    <a:arcTo wR="3600" hR="3600" stAng="16200000" swAng="-5400000"/>
                    <a:lnTo>
                      <a:pt x="0" y="38456"/>
                    </a:lnTo>
                    <a:arcTo wR="3600" hR="3600" stAng="10800000" swAng="-5400000"/>
                    <a:lnTo>
                      <a:pt x="18000" y="420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71720" y="3241440"/>
                <a:ext cx="1146240" cy="2584800"/>
              </a:xfrm>
              <a:custGeom>
                <a:avLst/>
                <a:gdLst>
                  <a:gd name="textAreaLeft" fmla="*/ 55800 w 1146240"/>
                  <a:gd name="textAreaRight" fmla="*/ 1090440 w 1146240"/>
                  <a:gd name="textAreaTop" fmla="*/ 55800 h 2584800"/>
                  <a:gd name="textAreaBottom" fmla="*/ 2529000 h 2584800"/>
                </a:gdLst>
                <a:ahLst/>
                <a:rect l="textAreaLeft" t="textAreaTop" r="textAreaRight" b="textAreaBottom"/>
                <a:pathLst>
                  <a:path w="21600" h="48700">
                    <a:moveTo>
                      <a:pt x="3600" y="0"/>
                    </a:moveTo>
                    <a:arcTo wR="3600" hR="3600" stAng="16200000" swAng="-5400000"/>
                    <a:lnTo>
                      <a:pt x="0" y="45100"/>
                    </a:lnTo>
                    <a:arcTo wR="3600" hR="3600" stAng="10800000" swAng="-5400000"/>
                    <a:lnTo>
                      <a:pt x="18000" y="487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46240" y="3383280"/>
                <a:ext cx="1034280" cy="2373840"/>
              </a:xfrm>
              <a:custGeom>
                <a:avLst/>
                <a:gdLst/>
                <a:ahLst/>
                <a:rect l="l" t="t" r="r" b="b"/>
                <a:pathLst>
                  <a:path w="823" h="1940">
                    <a:moveTo>
                      <a:pt x="188" y="0"/>
                    </a:moveTo>
                    <a:cubicBezTo>
                      <a:pt x="317" y="14"/>
                      <a:pt x="420" y="35"/>
                      <a:pt x="552" y="46"/>
                    </a:cubicBezTo>
                    <a:cubicBezTo>
                      <a:pt x="572" y="51"/>
                      <a:pt x="613" y="61"/>
                      <a:pt x="613" y="61"/>
                    </a:cubicBezTo>
                    <a:cubicBezTo>
                      <a:pt x="808" y="722"/>
                      <a:pt x="793" y="476"/>
                      <a:pt x="764" y="940"/>
                    </a:cubicBezTo>
                    <a:cubicBezTo>
                      <a:pt x="789" y="1239"/>
                      <a:pt x="823" y="1537"/>
                      <a:pt x="749" y="1834"/>
                    </a:cubicBezTo>
                    <a:cubicBezTo>
                      <a:pt x="735" y="1891"/>
                      <a:pt x="700" y="1914"/>
                      <a:pt x="643" y="1925"/>
                    </a:cubicBezTo>
                    <a:cubicBezTo>
                      <a:pt x="608" y="1932"/>
                      <a:pt x="537" y="1940"/>
                      <a:pt x="537" y="1940"/>
                    </a:cubicBezTo>
                    <a:cubicBezTo>
                      <a:pt x="380" y="1927"/>
                      <a:pt x="222" y="1929"/>
                      <a:pt x="67" y="1900"/>
                    </a:cubicBezTo>
                    <a:cubicBezTo>
                      <a:pt x="30" y="1893"/>
                      <a:pt x="66" y="1792"/>
                      <a:pt x="67" y="1789"/>
                    </a:cubicBezTo>
                    <a:cubicBezTo>
                      <a:pt x="91" y="1669"/>
                      <a:pt x="120" y="1632"/>
                      <a:pt x="203" y="1546"/>
                    </a:cubicBezTo>
                    <a:cubicBezTo>
                      <a:pt x="238" y="1445"/>
                      <a:pt x="249" y="1466"/>
                      <a:pt x="203" y="1380"/>
                    </a:cubicBezTo>
                    <a:cubicBezTo>
                      <a:pt x="0" y="652"/>
                      <a:pt x="66" y="1117"/>
                      <a:pt x="82" y="743"/>
                    </a:cubicBezTo>
                    <a:cubicBezTo>
                      <a:pt x="94" y="473"/>
                      <a:pt x="28" y="216"/>
                      <a:pt x="188" y="0"/>
                    </a:cubicBez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286080" y="3129120"/>
              <a:ext cx="1447920" cy="281916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819160"/>
                <a:gd name="textAreaBottom" fmla="*/ 2748600 h 2819160"/>
              </a:gdLst>
              <a:ahLst/>
              <a:rect l="textAreaLeft" t="textAreaTop" r="textAreaRight" b="textAreaBottom"/>
              <a:pathLst>
                <a:path w="21600" h="42051">
                  <a:moveTo>
                    <a:pt x="3600" y="0"/>
                  </a:moveTo>
                  <a:arcTo wR="3600" hR="3600" stAng="16200000" swAng="-5400000"/>
                  <a:lnTo>
                    <a:pt x="0" y="38451"/>
                  </a:lnTo>
                  <a:arcTo wR="3600" hR="3600" stAng="10800000" swAng="-5400000"/>
                  <a:lnTo>
                    <a:pt x="18000" y="42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3246480"/>
              <a:ext cx="1146240" cy="2584440"/>
            </a:xfrm>
            <a:custGeom>
              <a:avLst/>
              <a:gdLst>
                <a:gd name="textAreaLeft" fmla="*/ 55800 w 1146240"/>
                <a:gd name="textAreaRight" fmla="*/ 1090440 w 1146240"/>
                <a:gd name="textAreaTop" fmla="*/ 55800 h 2584440"/>
                <a:gd name="textAreaBottom" fmla="*/ 2528640 h 2584440"/>
              </a:gdLst>
              <a:ahLst/>
              <a:rect l="textAreaLeft" t="textAreaTop" r="textAreaRight" b="textAreaBottom"/>
              <a:pathLst>
                <a:path w="21600" h="48693">
                  <a:moveTo>
                    <a:pt x="3600" y="0"/>
                  </a:moveTo>
                  <a:arcTo wR="3600" hR="3600" stAng="16200000" swAng="-5400000"/>
                  <a:lnTo>
                    <a:pt x="0" y="45093"/>
                  </a:lnTo>
                  <a:arcTo wR="3600" hR="3600" stAng="10800000" swAng="-5400000"/>
                  <a:lnTo>
                    <a:pt x="18000" y="486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6760" y="3395520"/>
              <a:ext cx="879480" cy="2291040"/>
            </a:xfrm>
            <a:custGeom>
              <a:avLst/>
              <a:gdLst/>
              <a:ahLst/>
              <a:rect l="l" t="t" r="r" b="b"/>
              <a:pathLst>
                <a:path w="554" h="1443">
                  <a:moveTo>
                    <a:pt x="186" y="59"/>
                  </a:moveTo>
                  <a:cubicBezTo>
                    <a:pt x="265" y="70"/>
                    <a:pt x="306" y="0"/>
                    <a:pt x="387" y="8"/>
                  </a:cubicBezTo>
                  <a:cubicBezTo>
                    <a:pt x="399" y="12"/>
                    <a:pt x="425" y="19"/>
                    <a:pt x="425" y="19"/>
                  </a:cubicBezTo>
                  <a:cubicBezTo>
                    <a:pt x="545" y="520"/>
                    <a:pt x="536" y="334"/>
                    <a:pt x="518" y="685"/>
                  </a:cubicBezTo>
                  <a:cubicBezTo>
                    <a:pt x="533" y="912"/>
                    <a:pt x="554" y="1138"/>
                    <a:pt x="508" y="1363"/>
                  </a:cubicBezTo>
                  <a:cubicBezTo>
                    <a:pt x="500" y="1406"/>
                    <a:pt x="478" y="1423"/>
                    <a:pt x="443" y="1432"/>
                  </a:cubicBezTo>
                  <a:cubicBezTo>
                    <a:pt x="422" y="1437"/>
                    <a:pt x="378" y="1443"/>
                    <a:pt x="378" y="1443"/>
                  </a:cubicBezTo>
                  <a:cubicBezTo>
                    <a:pt x="281" y="1433"/>
                    <a:pt x="297" y="1354"/>
                    <a:pt x="201" y="1332"/>
                  </a:cubicBezTo>
                  <a:cubicBezTo>
                    <a:pt x="178" y="1326"/>
                    <a:pt x="88" y="1331"/>
                    <a:pt x="88" y="1329"/>
                  </a:cubicBezTo>
                  <a:cubicBezTo>
                    <a:pt x="103" y="1238"/>
                    <a:pt x="121" y="1210"/>
                    <a:pt x="172" y="1144"/>
                  </a:cubicBezTo>
                  <a:cubicBezTo>
                    <a:pt x="194" y="1068"/>
                    <a:pt x="153" y="1064"/>
                    <a:pt x="125" y="999"/>
                  </a:cubicBezTo>
                  <a:cubicBezTo>
                    <a:pt x="0" y="447"/>
                    <a:pt x="88" y="819"/>
                    <a:pt x="98" y="536"/>
                  </a:cubicBezTo>
                  <a:cubicBezTo>
                    <a:pt x="105" y="331"/>
                    <a:pt x="87" y="223"/>
                    <a:pt x="186" y="5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7760" y="3124080"/>
              <a:ext cx="1447920" cy="281952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819520"/>
                <a:gd name="textAreaBottom" fmla="*/ 2748960 h 2819520"/>
              </a:gdLst>
              <a:ahLst/>
              <a:rect l="textAreaLeft" t="textAreaTop" r="textAreaRight" b="textAreaBottom"/>
              <a:pathLst>
                <a:path w="21600" h="42056">
                  <a:moveTo>
                    <a:pt x="3600" y="0"/>
                  </a:moveTo>
                  <a:arcTo wR="3600" hR="3600" stAng="16200000" swAng="-5400000"/>
                  <a:lnTo>
                    <a:pt x="0" y="38456"/>
                  </a:lnTo>
                  <a:arcTo wR="3600" hR="3600" stAng="10800000" swAng="-5400000"/>
                  <a:lnTo>
                    <a:pt x="18000" y="420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0680" y="3241800"/>
              <a:ext cx="1146240" cy="2584440"/>
            </a:xfrm>
            <a:custGeom>
              <a:avLst/>
              <a:gdLst>
                <a:gd name="textAreaLeft" fmla="*/ 55800 w 1146240"/>
                <a:gd name="textAreaRight" fmla="*/ 1090440 w 1146240"/>
                <a:gd name="textAreaTop" fmla="*/ 55800 h 2584440"/>
                <a:gd name="textAreaBottom" fmla="*/ 2528640 h 2584440"/>
              </a:gdLst>
              <a:ahLst/>
              <a:rect l="textAreaLeft" t="textAreaTop" r="textAreaRight" b="textAreaBottom"/>
              <a:pathLst>
                <a:path w="21600" h="48693">
                  <a:moveTo>
                    <a:pt x="3600" y="0"/>
                  </a:moveTo>
                  <a:arcTo wR="3600" hR="3600" stAng="16200000" swAng="-5400000"/>
                  <a:lnTo>
                    <a:pt x="0" y="45093"/>
                  </a:lnTo>
                  <a:arcTo wR="3600" hR="3600" stAng="10800000" swAng="-5400000"/>
                  <a:lnTo>
                    <a:pt x="18000" y="486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3352680"/>
              <a:ext cx="905040" cy="2328840"/>
            </a:xfrm>
            <a:custGeom>
              <a:avLst/>
              <a:gdLst/>
              <a:ahLst/>
              <a:rect l="l" t="t" r="r" b="b"/>
              <a:pathLst>
                <a:path w="570" h="1467">
                  <a:moveTo>
                    <a:pt x="130" y="0"/>
                  </a:moveTo>
                  <a:cubicBezTo>
                    <a:pt x="220" y="11"/>
                    <a:pt x="291" y="26"/>
                    <a:pt x="382" y="35"/>
                  </a:cubicBezTo>
                  <a:cubicBezTo>
                    <a:pt x="396" y="39"/>
                    <a:pt x="425" y="46"/>
                    <a:pt x="425" y="46"/>
                  </a:cubicBezTo>
                  <a:cubicBezTo>
                    <a:pt x="560" y="546"/>
                    <a:pt x="549" y="360"/>
                    <a:pt x="529" y="711"/>
                  </a:cubicBezTo>
                  <a:cubicBezTo>
                    <a:pt x="546" y="937"/>
                    <a:pt x="570" y="1162"/>
                    <a:pt x="519" y="1387"/>
                  </a:cubicBezTo>
                  <a:cubicBezTo>
                    <a:pt x="509" y="1430"/>
                    <a:pt x="485" y="1447"/>
                    <a:pt x="445" y="1456"/>
                  </a:cubicBezTo>
                  <a:cubicBezTo>
                    <a:pt x="421" y="1461"/>
                    <a:pt x="372" y="1467"/>
                    <a:pt x="372" y="1467"/>
                  </a:cubicBezTo>
                  <a:cubicBezTo>
                    <a:pt x="263" y="1457"/>
                    <a:pt x="184" y="1442"/>
                    <a:pt x="76" y="1420"/>
                  </a:cubicBezTo>
                  <a:cubicBezTo>
                    <a:pt x="51" y="1414"/>
                    <a:pt x="121" y="1361"/>
                    <a:pt x="121" y="1359"/>
                  </a:cubicBezTo>
                  <a:cubicBezTo>
                    <a:pt x="138" y="1268"/>
                    <a:pt x="83" y="1234"/>
                    <a:pt x="141" y="1169"/>
                  </a:cubicBezTo>
                  <a:cubicBezTo>
                    <a:pt x="165" y="1093"/>
                    <a:pt x="172" y="1109"/>
                    <a:pt x="141" y="1044"/>
                  </a:cubicBezTo>
                  <a:cubicBezTo>
                    <a:pt x="0" y="493"/>
                    <a:pt x="95" y="839"/>
                    <a:pt x="106" y="556"/>
                  </a:cubicBezTo>
                  <a:cubicBezTo>
                    <a:pt x="114" y="352"/>
                    <a:pt x="19" y="163"/>
                    <a:pt x="130" y="0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28680" y="1943280"/>
            <a:ext cx="1828800" cy="4952880"/>
          </a:xfrm>
          <a:custGeom>
            <a:avLst/>
            <a:gdLst/>
            <a:ahLst/>
            <a:rect l="l" t="t" r="r" b="b"/>
            <a:pathLst>
              <a:path w="1152" h="3120">
                <a:moveTo>
                  <a:pt x="0" y="264"/>
                </a:moveTo>
                <a:cubicBezTo>
                  <a:pt x="248" y="132"/>
                  <a:pt x="496" y="0"/>
                  <a:pt x="624" y="408"/>
                </a:cubicBezTo>
                <a:cubicBezTo>
                  <a:pt x="752" y="816"/>
                  <a:pt x="680" y="2304"/>
                  <a:pt x="768" y="2712"/>
                </a:cubicBezTo>
                <a:cubicBezTo>
                  <a:pt x="856" y="3120"/>
                  <a:pt x="1088" y="2832"/>
                  <a:pt x="1152" y="2856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1800360"/>
            <a:ext cx="18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Apoplas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38840" y="2019240"/>
            <a:ext cx="395280" cy="4343400"/>
          </a:xfrm>
          <a:custGeom>
            <a:avLst/>
            <a:gdLst/>
            <a:ahLst/>
            <a:rect l="l" t="t" r="r" b="b"/>
            <a:pathLst>
              <a:path w="249" h="2736">
                <a:moveTo>
                  <a:pt x="249" y="0"/>
                </a:moveTo>
                <a:cubicBezTo>
                  <a:pt x="212" y="71"/>
                  <a:pt x="54" y="120"/>
                  <a:pt x="27" y="426"/>
                </a:cubicBezTo>
                <a:cubicBezTo>
                  <a:pt x="0" y="732"/>
                  <a:pt x="77" y="1535"/>
                  <a:pt x="87" y="1835"/>
                </a:cubicBezTo>
                <a:cubicBezTo>
                  <a:pt x="97" y="2135"/>
                  <a:pt x="60" y="2079"/>
                  <a:pt x="87" y="2229"/>
                </a:cubicBezTo>
                <a:cubicBezTo>
                  <a:pt x="114" y="2379"/>
                  <a:pt x="215" y="2631"/>
                  <a:pt x="249" y="2736"/>
                </a:cubicBezTo>
              </a:path>
            </a:pathLst>
          </a:custGeom>
          <a:noFill/>
          <a:ln w="7632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19720" y="1800360"/>
            <a:ext cx="15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Symplas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7432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between the cells via the cell 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2438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cell cytoplasm to cell cytopl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457200"/>
            <a:ext cx="335304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066680"/>
            <a:ext cx="129564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743200"/>
            <a:ext cx="281952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886200"/>
            <a:ext cx="4800600" cy="380880"/>
          </a:xfrm>
          <a:prstGeom prst="rect">
            <a:avLst/>
          </a:prstGeom>
          <a:solidFill>
            <a:srgbClr val="99ff33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mic Sans MS"/>
              </a:rPr>
              <a:t>The Symplas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rough the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enters the root hair cells across the partially permeable membrane by 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from high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 the soil to the lowe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 the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across the root from cytoplasm to cytoplas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own 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rad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t passes from one cell to the other via </a:t>
            </a: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plasmadesm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into the xylem by osmo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The only way across the endoderm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rmally the most important path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3505320"/>
            <a:ext cx="7315200" cy="38088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he Apoplas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through the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cellulose cell wal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intercellular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sp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permeable fibres of cellulose do no resist water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cannot pass the endodermis by this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cause the Casparian strip in the endodermis cell wall is impermeable to 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ue to the waterproof band of suber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 all water must pass the endodermis via the cytopla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fore it is under cellular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oplast route is important when transpiration rates are high as it is faster and requires no energ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257800" y="3276720"/>
            <a:ext cx="335268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3733920" cy="121932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sparian strip acts as an apoplast b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83808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asparian strip is made of suberin, which is impermeable to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082960"/>
            <a:ext cx="382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is unable to pass through the endodermis by the apoplast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327480"/>
            <a:ext cx="37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endodermis actively transports salts into the root xy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572000"/>
            <a:ext cx="382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wering 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in the xylem, so water moves in down 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gradient by osm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58672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moves up the stem in the 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256536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the casparian strip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botany.uwc.ac.za/ecotree/root/rootA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76680" y="380520"/>
            <a:ext cx="6324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verse Section of a Stem (Dico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1295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ascular bund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92320" y="1523520"/>
            <a:ext cx="1899000" cy="1293840"/>
            <a:chOff x="3892320" y="1523520"/>
            <a:chExt cx="1899000" cy="1293840"/>
          </a:xfrm>
        </p:grpSpPr>
        <p:sp>
          <p:nvSpPr>
            <p:cNvPr id="127" name=""/>
            <p:cNvSpPr/>
            <p:nvPr/>
          </p:nvSpPr>
          <p:spPr>
            <a:xfrm rot="2858400">
              <a:off x="4092120" y="1953720"/>
              <a:ext cx="114480" cy="533520"/>
            </a:xfrm>
            <a:custGeom>
              <a:avLst/>
              <a:gdLst>
                <a:gd name="textAreaLeft" fmla="*/ 0 w 114480"/>
                <a:gd name="textAreaRight" fmla="*/ 80280 w 11448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5547200">
              <a:off x="4161960" y="2328480"/>
              <a:ext cx="165240" cy="685800"/>
            </a:xfrm>
            <a:custGeom>
              <a:avLst/>
              <a:gdLst>
                <a:gd name="textAreaLeft" fmla="*/ 0 w 165240"/>
                <a:gd name="textAreaRight" fmla="*/ 115920 w 165240"/>
                <a:gd name="textAreaTop" fmla="*/ 28440 h 685800"/>
                <a:gd name="textAreaBottom" fmla="*/ 6573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191120" y="1523520"/>
              <a:ext cx="16002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67080" y="1523880"/>
              <a:ext cx="15242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55640" y="314172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a transverse section of a stem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skidmore.edu/academics/biology/plant_bi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scular bundle from a 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419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ylem ve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32004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lo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523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piderm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962520" y="1752480"/>
            <a:ext cx="838080" cy="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61960" y="3505320"/>
            <a:ext cx="2438280" cy="45720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5640" y="4572000"/>
            <a:ext cx="2667240" cy="228600"/>
            <a:chOff x="2285640" y="4572000"/>
            <a:chExt cx="2667240" cy="228600"/>
          </a:xfrm>
        </p:grpSpPr>
        <p:sp>
          <p:nvSpPr>
            <p:cNvPr id="139" name=""/>
            <p:cNvSpPr/>
            <p:nvPr/>
          </p:nvSpPr>
          <p:spPr>
            <a:xfrm flipH="1" flipV="1">
              <a:off x="2362320" y="4572000"/>
              <a:ext cx="2590560" cy="76320"/>
            </a:xfrm>
            <a:prstGeom prst="line">
              <a:avLst/>
            </a:prstGeom>
            <a:ln w="3816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285640" y="4648320"/>
              <a:ext cx="2514600" cy="152280"/>
            </a:xfrm>
            <a:prstGeom prst="line">
              <a:avLst/>
            </a:prstGeom>
            <a:ln w="3816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5280" y="2133720"/>
            <a:ext cx="4392720" cy="1014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ject to copyright clearance a suitable image showing a vascular bundle could be inser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.g. one similar to that found 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skidmore.edu/academics/biology/plant_bi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9:58:21Z</dcterms:created>
  <dc:creator>RM</dc:creator>
  <dc:description/>
  <dc:language>en-US</dc:language>
  <cp:lastModifiedBy>Brian Nelson</cp:lastModifiedBy>
  <dcterms:modified xsi:type="dcterms:W3CDTF">2005-06-22T23:00:05Z</dcterms:modified>
  <cp:revision>31</cp:revision>
  <dc:subject/>
  <dc:title>PowerPoint Presentation</dc:title>
</cp:coreProperties>
</file>